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161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217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4161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161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532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3440" y="198108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532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3440" y="4004640"/>
            <a:ext cx="264564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217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4161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400464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400968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640"/>
            <a:ext cx="8217000" cy="18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912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534960"/>
            <a:chOff x="0" y="0"/>
            <a:chExt cx="9132840" cy="5349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22360"/>
            </a:xfrm>
            <a:custGeom>
              <a:avLst/>
              <a:gdLst>
                <a:gd name="textAreaLeft" fmla="*/ 360 w 285840"/>
                <a:gd name="textAreaRight" fmla="*/ 285480 w 285840"/>
                <a:gd name="textAreaTop" fmla="*/ 360 h 522360"/>
                <a:gd name="textAreaBottom" fmla="*/ 522000 h 522360"/>
              </a:gdLst>
              <a:ahLst/>
              <a:rect l="textAreaLeft" t="textAreaTop" r="textAreaRight" b="textAreaBottom"/>
              <a:pathLst>
                <a:path w="21600" h="39451">
                  <a:moveTo>
                    <a:pt x="120" y="0"/>
                  </a:moveTo>
                  <a:arcTo wR="120" hR="120" stAng="16200000" swAng="-5400000"/>
                  <a:lnTo>
                    <a:pt x="0" y="39331"/>
                  </a:lnTo>
                  <a:arcTo wR="120" hR="120" stAng="10800000" swAng="-5400000"/>
                  <a:lnTo>
                    <a:pt x="21480" y="39451"/>
                  </a:lnTo>
                  <a:arcTo wR="120" hR="120" stAng="5400000" swAng="-5400000"/>
                  <a:lnTo>
                    <a:pt x="21600" y="120"/>
                  </a:lnTo>
                  <a:arcTo wR="120" hR="120" stAng="0" swAng="-5400000"/>
                  <a:close/>
                </a:path>
              </a:pathLst>
            </a:cu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19920" cy="274680"/>
            </a:xfrm>
            <a:prstGeom prst="roundRect">
              <a:avLst>
                <a:gd name="adj" fmla="val 57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custGeom>
              <a:avLst/>
              <a:gdLst>
                <a:gd name="textAreaLeft" fmla="*/ 360 w 137880"/>
                <a:gd name="textAreaRight" fmla="*/ 137520 w 137880"/>
                <a:gd name="textAreaTop" fmla="*/ 360 h 141120"/>
                <a:gd name="textAreaBottom" fmla="*/ 140760 h 141120"/>
              </a:gdLst>
              <a:ahLst/>
              <a:rect l="textAreaLeft" t="textAreaTop" r="textAreaRight" b="textAreaBottom"/>
              <a:pathLst>
                <a:path w="21600" h="22106">
                  <a:moveTo>
                    <a:pt x="251" y="0"/>
                  </a:moveTo>
                  <a:arcTo wR="251" hR="251" stAng="16200000" swAng="-5400000"/>
                  <a:lnTo>
                    <a:pt x="0" y="21855"/>
                  </a:lnTo>
                  <a:arcTo wR="251" hR="251" stAng="10800000" swAng="-5400000"/>
                  <a:lnTo>
                    <a:pt x="21349" y="22106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oundRect">
              <a:avLst>
                <a:gd name="adj" fmla="val 1162"/>
              </a:avLst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custGeom>
              <a:avLst/>
              <a:gdLst>
                <a:gd name="textAreaLeft" fmla="*/ 360 w 139680"/>
                <a:gd name="textAreaRight" fmla="*/ 139320 w 139680"/>
                <a:gd name="textAreaTop" fmla="*/ 360 h 141120"/>
                <a:gd name="textAreaBottom" fmla="*/ 140760 h 141120"/>
              </a:gdLst>
              <a:ahLst/>
              <a:rect l="textAreaLeft" t="textAreaTop" r="textAreaRight" b="textAreaBottom"/>
              <a:pathLst>
                <a:path w="21600" h="21822">
                  <a:moveTo>
                    <a:pt x="245" y="0"/>
                  </a:moveTo>
                  <a:arcTo wR="245" hR="245" stAng="16200000" swAng="-5400000"/>
                  <a:lnTo>
                    <a:pt x="0" y="21577"/>
                  </a:lnTo>
                  <a:arcTo wR="245" hR="245" stAng="10800000" swAng="-5400000"/>
                  <a:lnTo>
                    <a:pt x="21355" y="21822"/>
                  </a:lnTo>
                  <a:arcTo wR="245" hR="245" stAng="5400000" swAng="-5400000"/>
                  <a:lnTo>
                    <a:pt x="21600" y="245"/>
                  </a:lnTo>
                  <a:arcTo wR="245" hR="245" stAng="0" swAng="-5400000"/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66760"/>
              <a:ext cx="136440" cy="137880"/>
            </a:xfrm>
            <a:custGeom>
              <a:avLst/>
              <a:gdLst>
                <a:gd name="textAreaLeft" fmla="*/ 360 w 136440"/>
                <a:gd name="textAreaRight" fmla="*/ 136080 w 136440"/>
                <a:gd name="textAreaTop" fmla="*/ 360 h 137880"/>
                <a:gd name="textAreaBottom" fmla="*/ 137520 h 137880"/>
              </a:gdLst>
              <a:ahLst/>
              <a:rect l="textAreaLeft" t="textAreaTop" r="textAreaRight" b="textAreaBottom"/>
              <a:pathLst>
                <a:path w="21600" h="21827">
                  <a:moveTo>
                    <a:pt x="251" y="0"/>
                  </a:moveTo>
                  <a:arcTo wR="251" hR="251" stAng="16200000" swAng="-5400000"/>
                  <a:lnTo>
                    <a:pt x="0" y="21576"/>
                  </a:lnTo>
                  <a:arcTo wR="251" hR="251" stAng="10800000" swAng="-5400000"/>
                  <a:lnTo>
                    <a:pt x="21349" y="21827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oundRect">
              <a:avLst>
                <a:gd name="adj" fmla="val 1162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66760"/>
              <a:ext cx="137880" cy="13788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398520"/>
              <a:ext cx="136440" cy="13644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70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03480" indent="-30348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092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3912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3912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34640" cy="6846840"/>
            <a:chOff x="0" y="0"/>
            <a:chExt cx="9134640" cy="68468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46840"/>
            </a:xfrm>
            <a:custGeom>
              <a:avLst/>
              <a:gdLst>
                <a:gd name="textAreaLeft" fmla="*/ 360 w 3505320"/>
                <a:gd name="textAreaRight" fmla="*/ 3504960 w 3505320"/>
                <a:gd name="textAreaTop" fmla="*/ 360 h 6846840"/>
                <a:gd name="textAreaBottom" fmla="*/ 6846480 h 6846840"/>
              </a:gdLst>
              <a:ahLst/>
              <a:rect l="textAreaLeft" t="textAreaTop" r="textAreaRight" b="textAreaBottom"/>
              <a:pathLst>
                <a:path w="21600" h="42189">
                  <a:moveTo>
                    <a:pt x="9" y="0"/>
                  </a:moveTo>
                  <a:arcTo wR="9" hR="9" stAng="16200000" swAng="-5400000"/>
                  <a:lnTo>
                    <a:pt x="0" y="42180"/>
                  </a:lnTo>
                  <a:arcTo wR="9" hR="9" stAng="10800000" swAng="-5400000"/>
                  <a:lnTo>
                    <a:pt x="21591" y="42189"/>
                  </a:lnTo>
                  <a:arcTo wR="9" hR="9" stAng="5400000" swAng="-5400000"/>
                  <a:lnTo>
                    <a:pt x="21600" y="9"/>
                  </a:lnTo>
                  <a:arcTo wR="9" hR="9" stAng="0" swAng="-5400000"/>
                  <a:close/>
                </a:path>
              </a:pathLst>
            </a:cu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18520" cy="2533680"/>
            </a:xfrm>
            <a:prstGeom prst="roundRect">
              <a:avLst>
                <a:gd name="adj" fmla="val 60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54440" cy="3144960"/>
              <a:chOff x="0" y="1066680"/>
              <a:chExt cx="2854440" cy="3144960"/>
            </a:xfrm>
          </p:grpSpPr>
          <p:sp>
            <p:nvSpPr>
              <p:cNvPr id="52" name=""/>
              <p:cNvSpPr/>
              <p:nvPr/>
            </p:nvSpPr>
            <p:spPr>
              <a:xfrm>
                <a:off x="571680" y="3570120"/>
                <a:ext cx="576000" cy="641520"/>
              </a:xfrm>
              <a:custGeom>
                <a:avLst/>
                <a:gdLst>
                  <a:gd name="textAreaLeft" fmla="*/ 360 w 576000"/>
                  <a:gd name="textAreaRight" fmla="*/ 575640 w 576000"/>
                  <a:gd name="textAreaTop" fmla="*/ 360 h 641520"/>
                  <a:gd name="textAreaBottom" fmla="*/ 641160 h 641520"/>
                </a:gdLst>
                <a:ahLst/>
                <a:rect l="textAreaLeft" t="textAreaTop" r="textAreaRight" b="textAreaBottom"/>
                <a:pathLst>
                  <a:path w="21600" h="24055">
                    <a:moveTo>
                      <a:pt x="59" y="0"/>
                    </a:moveTo>
                    <a:arcTo wR="59" hR="59" stAng="16200000" swAng="-5400000"/>
                    <a:lnTo>
                      <a:pt x="0" y="23996"/>
                    </a:lnTo>
                    <a:arcTo wR="59" hR="59" stAng="10800000" swAng="-5400000"/>
                    <a:lnTo>
                      <a:pt x="21541" y="24055"/>
                    </a:lnTo>
                    <a:arcTo wR="59" hR="59" stAng="5400000" swAng="-5400000"/>
                    <a:lnTo>
                      <a:pt x="21600" y="59"/>
                    </a:lnTo>
                    <a:arcTo wR="59" hR="59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03520" y="1689120"/>
                <a:ext cx="574560" cy="642960"/>
              </a:xfrm>
              <a:custGeom>
                <a:avLst/>
                <a:gdLst>
                  <a:gd name="textAreaLeft" fmla="*/ 360 w 574560"/>
                  <a:gd name="textAreaRight" fmla="*/ 574200 w 574560"/>
                  <a:gd name="textAreaTop" fmla="*/ 360 h 642960"/>
                  <a:gd name="textAreaBottom" fmla="*/ 642600 h 642960"/>
                </a:gdLst>
                <a:ahLst/>
                <a:rect l="textAreaLeft" t="textAreaTop" r="textAreaRight" b="textAreaBottom"/>
                <a:pathLst>
                  <a:path w="21600" h="24170">
                    <a:moveTo>
                      <a:pt x="59" y="0"/>
                    </a:moveTo>
                    <a:arcTo wR="59" hR="59" stAng="16200000" swAng="-5400000"/>
                    <a:lnTo>
                      <a:pt x="0" y="24111"/>
                    </a:lnTo>
                    <a:arcTo wR="59" hR="59" stAng="10800000" swAng="-5400000"/>
                    <a:lnTo>
                      <a:pt x="21541" y="24170"/>
                    </a:lnTo>
                    <a:arcTo wR="59" hR="59" stAng="5400000" swAng="-5400000"/>
                    <a:lnTo>
                      <a:pt x="21600" y="59"/>
                    </a:lnTo>
                    <a:arcTo wR="59" hR="59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68360" y="1066680"/>
                <a:ext cx="586080" cy="635040"/>
              </a:xfrm>
              <a:custGeom>
                <a:avLst/>
                <a:gdLst>
                  <a:gd name="textAreaLeft" fmla="*/ 360 w 586080"/>
                  <a:gd name="textAreaRight" fmla="*/ 585720 w 586080"/>
                  <a:gd name="textAreaTop" fmla="*/ 360 h 635040"/>
                  <a:gd name="textAreaBottom" fmla="*/ 634680 h 635040"/>
                </a:gdLst>
                <a:ahLst/>
                <a:rect l="textAreaLeft" t="textAreaTop" r="textAreaRight" b="textAreaBottom"/>
                <a:pathLst>
                  <a:path w="21600" h="23403">
                    <a:moveTo>
                      <a:pt x="58" y="0"/>
                    </a:moveTo>
                    <a:arcTo wR="58" hR="58" stAng="16200000" swAng="-5400000"/>
                    <a:lnTo>
                      <a:pt x="0" y="23345"/>
                    </a:lnTo>
                    <a:arcTo wR="58" hR="58" stAng="10800000" swAng="-5400000"/>
                    <a:lnTo>
                      <a:pt x="21542" y="2340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31840" y="3570120"/>
                <a:ext cx="584280" cy="641520"/>
              </a:xfrm>
              <a:custGeom>
                <a:avLst/>
                <a:gdLst>
                  <a:gd name="textAreaLeft" fmla="*/ 360 w 584280"/>
                  <a:gd name="textAreaRight" fmla="*/ 583920 w 584280"/>
                  <a:gd name="textAreaTop" fmla="*/ 360 h 641520"/>
                  <a:gd name="textAreaBottom" fmla="*/ 641160 h 641520"/>
                </a:gdLst>
                <a:ahLst/>
                <a:rect l="textAreaLeft" t="textAreaTop" r="textAreaRight" b="textAreaBottom"/>
                <a:pathLst>
                  <a:path w="21600" h="23715">
                    <a:moveTo>
                      <a:pt x="58" y="0"/>
                    </a:moveTo>
                    <a:arcTo wR="58" hR="58" stAng="16200000" swAng="-5400000"/>
                    <a:lnTo>
                      <a:pt x="0" y="23657"/>
                    </a:lnTo>
                    <a:arcTo wR="58" hR="58" stAng="10800000" swAng="-5400000"/>
                    <a:lnTo>
                      <a:pt x="21542" y="23715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68360" y="1689120"/>
                <a:ext cx="586080" cy="642960"/>
              </a:xfrm>
              <a:custGeom>
                <a:avLst/>
                <a:gdLst>
                  <a:gd name="textAreaLeft" fmla="*/ 360 w 586080"/>
                  <a:gd name="textAreaRight" fmla="*/ 585720 w 586080"/>
                  <a:gd name="textAreaTop" fmla="*/ 360 h 642960"/>
                  <a:gd name="textAreaBottom" fmla="*/ 642600 h 642960"/>
                </a:gdLst>
                <a:ahLst/>
                <a:rect l="textAreaLeft" t="textAreaTop" r="textAreaRight" b="textAreaBottom"/>
                <a:pathLst>
                  <a:path w="21600" h="23695">
                    <a:moveTo>
                      <a:pt x="58" y="0"/>
                    </a:moveTo>
                    <a:arcTo wR="58" hR="58" stAng="16200000" swAng="-5400000"/>
                    <a:lnTo>
                      <a:pt x="0" y="23637"/>
                    </a:lnTo>
                    <a:arcTo wR="58" hR="58" stAng="10800000" swAng="-5400000"/>
                    <a:lnTo>
                      <a:pt x="21542" y="23695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31840" y="2314440"/>
                <a:ext cx="584280" cy="633600"/>
              </a:xfrm>
              <a:custGeom>
                <a:avLst/>
                <a:gdLst>
                  <a:gd name="textAreaLeft" fmla="*/ 360 w 584280"/>
                  <a:gd name="textAreaRight" fmla="*/ 583920 w 584280"/>
                  <a:gd name="textAreaTop" fmla="*/ 360 h 633600"/>
                  <a:gd name="textAreaBottom" fmla="*/ 633240 h 633600"/>
                </a:gdLst>
                <a:ahLst/>
                <a:rect l="textAreaLeft" t="textAreaTop" r="textAreaRight" b="textAreaBottom"/>
                <a:pathLst>
                  <a:path w="21600" h="23422">
                    <a:moveTo>
                      <a:pt x="58" y="0"/>
                    </a:moveTo>
                    <a:arcTo wR="58" hR="58" stAng="16200000" swAng="-5400000"/>
                    <a:lnTo>
                      <a:pt x="0" y="23364"/>
                    </a:lnTo>
                    <a:arcTo wR="58" hR="58" stAng="10800000" swAng="-5400000"/>
                    <a:lnTo>
                      <a:pt x="21542" y="23422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14440"/>
                <a:ext cx="581040" cy="633600"/>
              </a:xfrm>
              <a:custGeom>
                <a:avLst/>
                <a:gdLst>
                  <a:gd name="textAreaLeft" fmla="*/ 360 w 581040"/>
                  <a:gd name="textAreaRight" fmla="*/ 580680 w 581040"/>
                  <a:gd name="textAreaTop" fmla="*/ 360 h 633600"/>
                  <a:gd name="textAreaBottom" fmla="*/ 633240 h 633600"/>
                </a:gdLst>
                <a:ahLst/>
                <a:rect l="textAreaLeft" t="textAreaTop" r="textAreaRight" b="textAreaBottom"/>
                <a:pathLst>
                  <a:path w="21600" h="23553">
                    <a:moveTo>
                      <a:pt x="59" y="0"/>
                    </a:moveTo>
                    <a:arcTo wR="59" hR="59" stAng="16200000" swAng="-5400000"/>
                    <a:lnTo>
                      <a:pt x="0" y="23494"/>
                    </a:lnTo>
                    <a:arcTo wR="59" hR="59" stAng="10800000" swAng="-5400000"/>
                    <a:lnTo>
                      <a:pt x="21541" y="23553"/>
                    </a:lnTo>
                    <a:arcTo wR="59" hR="59" stAng="5400000" swAng="-5400000"/>
                    <a:lnTo>
                      <a:pt x="21600" y="59"/>
                    </a:lnTo>
                    <a:arcTo wR="59" hR="59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03520" y="2314440"/>
                <a:ext cx="574560" cy="633600"/>
              </a:xfrm>
              <a:custGeom>
                <a:avLst/>
                <a:gdLst>
                  <a:gd name="textAreaLeft" fmla="*/ 360 w 574560"/>
                  <a:gd name="textAreaRight" fmla="*/ 574200 w 574560"/>
                  <a:gd name="textAreaTop" fmla="*/ 360 h 633600"/>
                  <a:gd name="textAreaBottom" fmla="*/ 633240 h 633600"/>
                </a:gdLst>
                <a:ahLst/>
                <a:rect l="textAreaLeft" t="textAreaTop" r="textAreaRight" b="textAreaBottom"/>
                <a:pathLst>
                  <a:path w="21600" h="23818">
                    <a:moveTo>
                      <a:pt x="59" y="0"/>
                    </a:moveTo>
                    <a:arcTo wR="59" hR="59" stAng="16200000" swAng="-5400000"/>
                    <a:lnTo>
                      <a:pt x="0" y="23759"/>
                    </a:lnTo>
                    <a:arcTo wR="59" hR="59" stAng="10800000" swAng="-5400000"/>
                    <a:lnTo>
                      <a:pt x="21541" y="23818"/>
                    </a:lnTo>
                    <a:arcTo wR="59" hR="59" stAng="5400000" swAng="-5400000"/>
                    <a:lnTo>
                      <a:pt x="21600" y="59"/>
                    </a:lnTo>
                    <a:arcTo wR="59" hR="59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1680" y="2938320"/>
                <a:ext cx="576000" cy="644760"/>
              </a:xfrm>
              <a:custGeom>
                <a:avLst/>
                <a:gdLst>
                  <a:gd name="textAreaLeft" fmla="*/ 360 w 576000"/>
                  <a:gd name="textAreaRight" fmla="*/ 575640 w 576000"/>
                  <a:gd name="textAreaTop" fmla="*/ 360 h 644760"/>
                  <a:gd name="textAreaBottom" fmla="*/ 644400 h 644760"/>
                </a:gdLst>
                <a:ahLst/>
                <a:rect l="textAreaLeft" t="textAreaTop" r="textAreaRight" b="textAreaBottom"/>
                <a:pathLst>
                  <a:path w="21600" h="24177">
                    <a:moveTo>
                      <a:pt x="59" y="0"/>
                    </a:moveTo>
                    <a:arcTo wR="59" hR="59" stAng="16200000" swAng="-5400000"/>
                    <a:lnTo>
                      <a:pt x="0" y="24118"/>
                    </a:lnTo>
                    <a:arcTo wR="59" hR="59" stAng="10800000" swAng="-5400000"/>
                    <a:lnTo>
                      <a:pt x="21541" y="24177"/>
                    </a:lnTo>
                    <a:arcTo wR="59" hR="59" stAng="5400000" swAng="-5400000"/>
                    <a:lnTo>
                      <a:pt x="21600" y="59"/>
                    </a:lnTo>
                    <a:arcTo wR="59" hR="59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31840" y="2938320"/>
                <a:ext cx="584280" cy="644760"/>
              </a:xfrm>
              <a:custGeom>
                <a:avLst/>
                <a:gdLst>
                  <a:gd name="textAreaLeft" fmla="*/ 360 w 584280"/>
                  <a:gd name="textAreaRight" fmla="*/ 583920 w 584280"/>
                  <a:gd name="textAreaTop" fmla="*/ 360 h 644760"/>
                  <a:gd name="textAreaBottom" fmla="*/ 644400 h 644760"/>
                </a:gdLst>
                <a:ahLst/>
                <a:rect l="textAreaLeft" t="textAreaTop" r="textAreaRight" b="textAreaBottom"/>
                <a:pathLst>
                  <a:path w="21600" h="23834">
                    <a:moveTo>
                      <a:pt x="58" y="0"/>
                    </a:moveTo>
                    <a:arcTo wR="58" hR="58" stAng="16200000" swAng="-5400000"/>
                    <a:lnTo>
                      <a:pt x="0" y="23776"/>
                    </a:lnTo>
                    <a:arcTo wR="58" hR="58" stAng="10800000" swAng="-5400000"/>
                    <a:lnTo>
                      <a:pt x="21542" y="23834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0696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912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912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912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m.andromda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eam.andromda.org/docs/case-tool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team.andromda.org/docs" TargetMode="External"/><Relationship Id="rId2" Type="http://schemas.openxmlformats.org/officeDocument/2006/relationships/hyperlink" Target="mailto:Andromda-user@lists.sourceforge.net" TargetMode="External"/><Relationship Id="rId3" Type="http://schemas.openxmlformats.org/officeDocument/2006/relationships/hyperlink" Target="mailto:Andromda-devel@lists.sourceforge.net" TargetMode="External"/><Relationship Id="rId4" Type="http://schemas.openxmlformats.org/officeDocument/2006/relationships/hyperlink" Target="http://jira.andromda.or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6163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AndroMD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ts val="4161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Introduction to an open-source MDA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31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 2002 UML2EJB released by Matthias Bo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b 2003 Renamed to Androm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b 2004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2005 Ver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1360" y="1685520"/>
            <a:ext cx="82231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thias Bohlen (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d Brandon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uter Zoons (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los Cuenca (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tin West (G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ter Friese (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The Use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roM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3720" y="17971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-source: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eam.andromd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s XMI, O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transformation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, Hibernate, Spring, XML Schema, Java, Struts, OCL translations/queries, Web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4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pporte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complete list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eam.andromda.org/docs/case-too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ndromda developers use Magic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gener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 a template J2EE project for Maven or Ant (Standalone wars or 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ma2X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a database and create a UML model fro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ty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 management user interface for mode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romda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6840" y="2362320"/>
            <a:ext cx="284472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 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4852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3880" y="1790640"/>
            <a:ext cx="735804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4160" y="1530360"/>
            <a:ext cx="8499240" cy="80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ontEnd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11120" y="1592280"/>
            <a:ext cx="83599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pics covered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Driven Architectu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roMDA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roMDA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roMDA Architecture an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line Stor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52440" y="1641600"/>
            <a:ext cx="74804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line Store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8520" y="1635120"/>
            <a:ext cx="677844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line Stor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4880" y="1625760"/>
            <a:ext cx="76773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line Store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69720" y="1658880"/>
            <a:ext cx="756288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02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e Tuning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gg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rg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ride or Replace Cartridge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02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Me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8600" y="1560600"/>
            <a:ext cx="7715880" cy="480168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or example, this fragment below (from a mappings file) says we want to replace anything found ma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!-- error-page merge-point --&gt;   (defined in the &lt;to/&gt;  definition) with the  &lt;error-page/&gt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ragments (found in the from &lt;from/&gt; definition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mappings name="Bpm4StrutsMergeMapping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mapping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r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![CDATA[&lt;!-- error-page merge-point --&gt;]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fr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t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![CDATA[ &lt;error-page&gt; &lt;error-code&gt;404&lt;/error-code&gt; &lt;location&gt;/index.jsp&lt;/location&gt; &lt;/error-pag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error-page&gt; &lt;error-code&gt;408&lt;/error-code&gt; &lt;location&gt;/index.jsp&lt;/location&gt; &lt;/error-pag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error-page&gt; &lt;error-code&gt;400&lt;/error-code&gt; &lt;location&gt;/index.jsp&lt;/location&gt; &lt;/error-page&gt; ]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to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mapping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mapping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4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imal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persistenc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PM4Struts demo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&lt;&lt;Manageable&gt;&gt; to your entities and have CRUD pages generated for you, 100%! no manual coding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PM4Struts Cartridg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2040" y="165240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loading pag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pup-calendars, widg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rtable/pageable 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curity, disabled buttons/l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put validation (email, pattern, range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line help, toolt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eadcrum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ization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9720" y="1658880"/>
            <a:ext cx="82281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L was orginally designed as a way of describing constraints in your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weren't possible to express with UML drawings al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L 2.0 has expanded on the constraint abilities (i.e.  pre  ,  post  ,  inv  ) of OCL and have made OCL a fully fledged object expression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ddition to translating OCL query bodies,  you can also translate constraints (i.e. OCL -&gt; Java, OCL -&gt; SQL, etc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312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romda Architecture an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16240" y="2759040"/>
            <a:ext cx="412272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312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l Driven Architectur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77920" y="2147760"/>
            <a:ext cx="4788000" cy="41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4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8480" y="5337000"/>
            <a:ext cx="7237440" cy="1260720"/>
            <a:chOff x="1068480" y="5337000"/>
            <a:chExt cx="7237440" cy="1260720"/>
          </a:xfrm>
        </p:grpSpPr>
        <p:sp>
          <p:nvSpPr>
            <p:cNvPr id="213" name=""/>
            <p:cNvSpPr/>
            <p:nvPr/>
          </p:nvSpPr>
          <p:spPr>
            <a:xfrm>
              <a:off x="1068480" y="5337000"/>
              <a:ext cx="7237440" cy="1260720"/>
            </a:xfrm>
            <a:prstGeom prst="roundRect">
              <a:avLst>
                <a:gd name="adj" fmla="val 125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68480" y="5624280"/>
              <a:ext cx="7237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pository Access, Transformation and Translation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tridge Processing, Template 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0320" y="4433760"/>
            <a:ext cx="6087960" cy="714600"/>
            <a:chOff x="2200320" y="4433760"/>
            <a:chExt cx="6087960" cy="714600"/>
          </a:xfrm>
        </p:grpSpPr>
        <p:grpSp>
          <p:nvGrpSpPr>
            <p:cNvPr id="216" name=""/>
            <p:cNvGrpSpPr/>
            <p:nvPr/>
          </p:nvGrpSpPr>
          <p:grpSpPr>
            <a:xfrm>
              <a:off x="5780160" y="4433760"/>
              <a:ext cx="2508120" cy="714600"/>
              <a:chOff x="5780160" y="4433760"/>
              <a:chExt cx="2508120" cy="71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5780160" y="4433760"/>
                <a:ext cx="2508120" cy="714600"/>
              </a:xfrm>
              <a:prstGeom prst="roundRect">
                <a:avLst>
                  <a:gd name="adj" fmla="val 22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80160" y="4676400"/>
                <a:ext cx="25066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elocity Eng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990960" y="4433760"/>
              <a:ext cx="1604880" cy="714600"/>
              <a:chOff x="3990960" y="4433760"/>
              <a:chExt cx="1604880" cy="714600"/>
            </a:xfrm>
          </p:grpSpPr>
          <p:sp>
            <p:nvSpPr>
              <p:cNvPr id="220" name=""/>
              <p:cNvSpPr/>
              <p:nvPr/>
            </p:nvSpPr>
            <p:spPr>
              <a:xfrm>
                <a:off x="3990960" y="4433760"/>
                <a:ext cx="1604880" cy="714600"/>
              </a:xfrm>
              <a:prstGeom prst="roundRect">
                <a:avLst>
                  <a:gd name="adj" fmla="val 22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90960" y="4562280"/>
                <a:ext cx="1603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ML 1.4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faca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200320" y="4433760"/>
              <a:ext cx="1604880" cy="714600"/>
              <a:chOff x="2200320" y="4433760"/>
              <a:chExt cx="1604880" cy="714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200320" y="4433760"/>
                <a:ext cx="1604880" cy="714600"/>
              </a:xfrm>
              <a:prstGeom prst="roundRect">
                <a:avLst>
                  <a:gd name="adj" fmla="val 222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00320" y="4676400"/>
                <a:ext cx="16034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OC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95280" y="4187880"/>
            <a:ext cx="84409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57880" y="1560600"/>
            <a:ext cx="890640" cy="2246400"/>
            <a:chOff x="6257880" y="1560600"/>
            <a:chExt cx="890640" cy="2246400"/>
          </a:xfrm>
        </p:grpSpPr>
        <p:sp>
          <p:nvSpPr>
            <p:cNvPr id="227" name=""/>
            <p:cNvSpPr/>
            <p:nvPr/>
          </p:nvSpPr>
          <p:spPr>
            <a:xfrm>
              <a:off x="6257880" y="156060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57880" y="2569320"/>
              <a:ext cx="8906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p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10200" y="1560600"/>
            <a:ext cx="890640" cy="2246400"/>
            <a:chOff x="5110200" y="1560600"/>
            <a:chExt cx="890640" cy="2246400"/>
          </a:xfrm>
        </p:grpSpPr>
        <p:sp>
          <p:nvSpPr>
            <p:cNvPr id="230" name=""/>
            <p:cNvSpPr/>
            <p:nvPr/>
          </p:nvSpPr>
          <p:spPr>
            <a:xfrm>
              <a:off x="5110200" y="156060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10200" y="2340720"/>
              <a:ext cx="8906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tru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35520" y="1560600"/>
            <a:ext cx="890640" cy="2246400"/>
            <a:chOff x="3935520" y="1560600"/>
            <a:chExt cx="890640" cy="2246400"/>
          </a:xfrm>
        </p:grpSpPr>
        <p:sp>
          <p:nvSpPr>
            <p:cNvPr id="233" name=""/>
            <p:cNvSpPr/>
            <p:nvPr/>
          </p:nvSpPr>
          <p:spPr>
            <a:xfrm>
              <a:off x="3935520" y="156060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5520" y="2454840"/>
              <a:ext cx="890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ib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r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43280" y="1560600"/>
            <a:ext cx="890640" cy="2246400"/>
            <a:chOff x="2843280" y="1560600"/>
            <a:chExt cx="890640" cy="2246400"/>
          </a:xfrm>
        </p:grpSpPr>
        <p:sp>
          <p:nvSpPr>
            <p:cNvPr id="236" name=""/>
            <p:cNvSpPr/>
            <p:nvPr/>
          </p:nvSpPr>
          <p:spPr>
            <a:xfrm>
              <a:off x="2843280" y="156060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3280" y="2569320"/>
              <a:ext cx="8906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38440" y="1560600"/>
            <a:ext cx="890640" cy="2246400"/>
            <a:chOff x="1738440" y="1560600"/>
            <a:chExt cx="890640" cy="2246400"/>
          </a:xfrm>
        </p:grpSpPr>
        <p:sp>
          <p:nvSpPr>
            <p:cNvPr id="239" name=""/>
            <p:cNvSpPr/>
            <p:nvPr/>
          </p:nvSpPr>
          <p:spPr>
            <a:xfrm>
              <a:off x="1738440" y="156060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38440" y="2569320"/>
              <a:ext cx="8906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J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9600" y="4187880"/>
            <a:ext cx="593640" cy="338040"/>
            <a:chOff x="129600" y="4187880"/>
            <a:chExt cx="593640" cy="338040"/>
          </a:xfrm>
        </p:grpSpPr>
        <p:sp>
          <p:nvSpPr>
            <p:cNvPr id="242" name=""/>
            <p:cNvSpPr/>
            <p:nvPr/>
          </p:nvSpPr>
          <p:spPr>
            <a:xfrm>
              <a:off x="181080" y="4187880"/>
              <a:ext cx="4921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29600" y="4187880"/>
              <a:ext cx="593640" cy="336600"/>
              <a:chOff x="129600" y="4187880"/>
              <a:chExt cx="593640" cy="336600"/>
            </a:xfrm>
          </p:grpSpPr>
          <p:sp>
            <p:nvSpPr>
              <p:cNvPr id="244" name=""/>
              <p:cNvSpPr/>
              <p:nvPr/>
            </p:nvSpPr>
            <p:spPr>
              <a:xfrm>
                <a:off x="181080" y="4187880"/>
                <a:ext cx="49032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29600" y="4187880"/>
                <a:ext cx="593640" cy="336600"/>
                <a:chOff x="129600" y="4187880"/>
                <a:chExt cx="593640" cy="3366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81080" y="4187880"/>
                  <a:ext cx="490320" cy="336600"/>
                </a:xfrm>
                <a:prstGeom prst="roundRect">
                  <a:avLst>
                    <a:gd name="adj" fmla="val 46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9600" y="4187880"/>
                  <a:ext cx="593640" cy="228960"/>
                </a:xfrm>
                <a:prstGeom prst="roundRect">
                  <a:avLst>
                    <a:gd name="adj" fmla="val 46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Co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" name=""/>
          <p:cNvGrpSpPr/>
          <p:nvPr/>
        </p:nvGrpSpPr>
        <p:grpSpPr>
          <a:xfrm>
            <a:off x="-30240" y="3843360"/>
            <a:ext cx="1273320" cy="338040"/>
            <a:chOff x="-30240" y="3843360"/>
            <a:chExt cx="1273320" cy="338040"/>
          </a:xfrm>
        </p:grpSpPr>
        <p:sp>
          <p:nvSpPr>
            <p:cNvPr id="249" name=""/>
            <p:cNvSpPr/>
            <p:nvPr/>
          </p:nvSpPr>
          <p:spPr>
            <a:xfrm>
              <a:off x="82440" y="3843360"/>
              <a:ext cx="10494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-30240" y="3843360"/>
              <a:ext cx="1273320" cy="336600"/>
              <a:chOff x="-30240" y="3843360"/>
              <a:chExt cx="1273320" cy="336600"/>
            </a:xfrm>
          </p:grpSpPr>
          <p:sp>
            <p:nvSpPr>
              <p:cNvPr id="251" name=""/>
              <p:cNvSpPr/>
              <p:nvPr/>
            </p:nvSpPr>
            <p:spPr>
              <a:xfrm>
                <a:off x="82440" y="3843360"/>
                <a:ext cx="1047960" cy="33660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-30240" y="3843360"/>
                <a:ext cx="1273320" cy="336600"/>
                <a:chOff x="-30240" y="3843360"/>
                <a:chExt cx="1273320" cy="336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82440" y="3843360"/>
                  <a:ext cx="1047960" cy="336600"/>
                </a:xfrm>
                <a:prstGeom prst="roundRect">
                  <a:avLst>
                    <a:gd name="adj" fmla="val 46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-30240" y="3843360"/>
                  <a:ext cx="1273320" cy="228960"/>
                </a:xfrm>
                <a:prstGeom prst="roundRect">
                  <a:avLst>
                    <a:gd name="adj" fmla="val 46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Cartridg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5" name=""/>
          <p:cNvGrpSpPr/>
          <p:nvPr/>
        </p:nvGrpSpPr>
        <p:grpSpPr>
          <a:xfrm>
            <a:off x="674640" y="1576440"/>
            <a:ext cx="890640" cy="2246400"/>
            <a:chOff x="674640" y="1576440"/>
            <a:chExt cx="890640" cy="2246400"/>
          </a:xfrm>
        </p:grpSpPr>
        <p:sp>
          <p:nvSpPr>
            <p:cNvPr id="256" name=""/>
            <p:cNvSpPr/>
            <p:nvPr/>
          </p:nvSpPr>
          <p:spPr>
            <a:xfrm>
              <a:off x="674640" y="1576440"/>
              <a:ext cx="890640" cy="2246400"/>
            </a:xfrm>
            <a:custGeom>
              <a:avLst/>
              <a:gdLst>
                <a:gd name="textAreaLeft" fmla="*/ 360 w 890640"/>
                <a:gd name="textAreaRight" fmla="*/ 890280 w 89064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67">
                  <a:moveTo>
                    <a:pt x="38" y="0"/>
                  </a:moveTo>
                  <a:arcTo wR="38" hR="38" stAng="16200000" swAng="-5400000"/>
                  <a:lnTo>
                    <a:pt x="0" y="54429"/>
                  </a:lnTo>
                  <a:arcTo wR="38" hR="38" stAng="10800000" swAng="-5400000"/>
                  <a:lnTo>
                    <a:pt x="21562" y="5446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4640" y="2356560"/>
              <a:ext cx="8906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375680" y="1542960"/>
            <a:ext cx="890280" cy="2246400"/>
            <a:chOff x="7375680" y="1542960"/>
            <a:chExt cx="890280" cy="2246400"/>
          </a:xfrm>
        </p:grpSpPr>
        <p:sp>
          <p:nvSpPr>
            <p:cNvPr id="259" name=""/>
            <p:cNvSpPr/>
            <p:nvPr/>
          </p:nvSpPr>
          <p:spPr>
            <a:xfrm>
              <a:off x="7375680" y="1542960"/>
              <a:ext cx="890280" cy="2246400"/>
            </a:xfrm>
            <a:custGeom>
              <a:avLst/>
              <a:gdLst>
                <a:gd name="textAreaLeft" fmla="*/ 360 w 890280"/>
                <a:gd name="textAreaRight" fmla="*/ 889920 w 890280"/>
                <a:gd name="textAreaTop" fmla="*/ 360 h 2246400"/>
                <a:gd name="textAreaBottom" fmla="*/ 2246040 h 2246400"/>
              </a:gdLst>
              <a:ahLst/>
              <a:rect l="textAreaLeft" t="textAreaTop" r="textAreaRight" b="textAreaBottom"/>
              <a:pathLst>
                <a:path w="21600" h="54489">
                  <a:moveTo>
                    <a:pt x="38" y="0"/>
                  </a:moveTo>
                  <a:arcTo wR="38" hR="38" stAng="16200000" swAng="-5400000"/>
                  <a:lnTo>
                    <a:pt x="0" y="54451"/>
                  </a:lnTo>
                  <a:arcTo wR="38" hR="38" stAng="10800000" swAng="-5400000"/>
                  <a:lnTo>
                    <a:pt x="21562" y="54489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75680" y="2551680"/>
              <a:ext cx="890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9600" y="145584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s own MDA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afacade Cartridge generated using bootstrap gen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d for model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uggable cartri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st write and add to class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135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mplate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uggable genera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rge Points to control source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ts val="3135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49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tridg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descri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romda-cartridg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1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s properties and templ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romda-metafacades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1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s properties and model to metafacd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romda-profil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1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s tag and stereotype name mapp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romda Generate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bernate Metafacad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2800" y="1641600"/>
            <a:ext cx="819468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ll Hibernate Metafacd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6240" y="1592280"/>
            <a:ext cx="84801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7880" y="1619280"/>
            <a:ext cx="859176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team.andromda.org/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3ff23"/>
                </a:solidFill>
                <a:latin typeface="Arial"/>
              </a:rPr>
              <a:t>How tos, FAQs, Presentions, Tutorials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0099"/>
                </a:solidFill>
                <a:latin typeface="Arial"/>
              </a:rPr>
              <a:t>Mail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ndromda-user@lists.sourceforg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ndromda-devel@lists.sourceforg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ugs,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jira.andromd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confluence.andromd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 with Matthias Bo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codegeneration.net/tiki-read_article.php?articleId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63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assical vs. Modern 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cal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ing ideas into platform specific instructions; ASM, C, C++, Java,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gitizing/visualizing ideas into a platform independent language model; UML, X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850000" y="1982880"/>
            <a:ext cx="2251080" cy="1052280"/>
            <a:chOff x="5850000" y="1982880"/>
            <a:chExt cx="2251080" cy="1052280"/>
          </a:xfrm>
        </p:grpSpPr>
        <p:grpSp>
          <p:nvGrpSpPr>
            <p:cNvPr id="110" name=""/>
            <p:cNvGrpSpPr/>
            <p:nvPr/>
          </p:nvGrpSpPr>
          <p:grpSpPr>
            <a:xfrm>
              <a:off x="5850000" y="1982880"/>
              <a:ext cx="2251080" cy="1052280"/>
              <a:chOff x="5850000" y="1982880"/>
              <a:chExt cx="2251080" cy="1052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0000" y="1982880"/>
                <a:ext cx="2251080" cy="1052280"/>
              </a:xfrm>
              <a:custGeom>
                <a:avLst/>
                <a:gdLst/>
                <a:ahLst/>
                <a:rect l="l" t="t" r="r" b="b"/>
                <a:pathLst>
                  <a:path w="6254" h="2924">
                    <a:moveTo>
                      <a:pt x="0" y="486"/>
                    </a:moveTo>
                    <a:lnTo>
                      <a:pt x="436" y="486"/>
                    </a:lnTo>
                    <a:lnTo>
                      <a:pt x="436" y="246"/>
                    </a:lnTo>
                    <a:lnTo>
                      <a:pt x="866" y="246"/>
                    </a:lnTo>
                    <a:lnTo>
                      <a:pt x="866" y="0"/>
                    </a:lnTo>
                    <a:lnTo>
                      <a:pt x="6253" y="0"/>
                    </a:lnTo>
                    <a:lnTo>
                      <a:pt x="6253" y="1956"/>
                    </a:lnTo>
                    <a:lnTo>
                      <a:pt x="5816" y="1956"/>
                    </a:lnTo>
                    <a:lnTo>
                      <a:pt x="5816" y="2200"/>
                    </a:lnTo>
                    <a:lnTo>
                      <a:pt x="5386" y="2200"/>
                    </a:lnTo>
                    <a:lnTo>
                      <a:pt x="5386" y="2447"/>
                    </a:lnTo>
                    <a:cubicBezTo>
                      <a:pt x="3361" y="2431"/>
                      <a:pt x="3321" y="2828"/>
                      <a:pt x="1398" y="2923"/>
                    </a:cubicBezTo>
                    <a:cubicBezTo>
                      <a:pt x="710" y="2866"/>
                      <a:pt x="462" y="2820"/>
                      <a:pt x="0" y="2754"/>
                    </a:cubicBezTo>
                    <a:lnTo>
                      <a:pt x="0" y="486"/>
                    </a:ln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2158920"/>
                <a:ext cx="1782720" cy="619200"/>
              </a:xfrm>
              <a:custGeom>
                <a:avLst/>
                <a:gdLst/>
                <a:ahLst/>
                <a:rect l="l" t="t" r="r" b="b"/>
                <a:pathLst>
                  <a:path w="4950" h="1721">
                    <a:moveTo>
                      <a:pt x="0" y="0"/>
                    </a:moveTo>
                    <a:lnTo>
                      <a:pt x="4949" y="0"/>
                    </a:lnTo>
                    <a:lnTo>
                      <a:pt x="4949" y="17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62840" y="2071800"/>
                <a:ext cx="1779480" cy="615960"/>
              </a:xfrm>
              <a:custGeom>
                <a:avLst/>
                <a:gdLst/>
                <a:ahLst/>
                <a:rect l="l" t="t" r="r" b="b"/>
                <a:pathLst>
                  <a:path w="4945" h="1709">
                    <a:moveTo>
                      <a:pt x="0" y="0"/>
                    </a:moveTo>
                    <a:lnTo>
                      <a:pt x="4944" y="0"/>
                    </a:lnTo>
                    <a:lnTo>
                      <a:pt x="4944" y="170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850000" y="2160720"/>
              <a:ext cx="1938240" cy="703080"/>
              <a:chOff x="5850000" y="2160720"/>
              <a:chExt cx="1938240" cy="703080"/>
            </a:xfrm>
          </p:grpSpPr>
          <p:sp>
            <p:nvSpPr>
              <p:cNvPr id="115" name=""/>
              <p:cNvSpPr/>
              <p:nvPr/>
            </p:nvSpPr>
            <p:spPr>
              <a:xfrm>
                <a:off x="5850000" y="2160720"/>
                <a:ext cx="1938240" cy="703080"/>
              </a:xfrm>
              <a:prstGeom prst="roundRect">
                <a:avLst>
                  <a:gd name="adj" fmla="val 2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0000" y="2236680"/>
                <a:ext cx="1936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Java, C++, Pe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316240" y="2071800"/>
            <a:ext cx="1420560" cy="674640"/>
            <a:chOff x="2316240" y="2071800"/>
            <a:chExt cx="1420560" cy="674640"/>
          </a:xfrm>
        </p:grpSpPr>
        <p:sp>
          <p:nvSpPr>
            <p:cNvPr id="118" name=""/>
            <p:cNvSpPr/>
            <p:nvPr/>
          </p:nvSpPr>
          <p:spPr>
            <a:xfrm>
              <a:off x="2316240" y="2071800"/>
              <a:ext cx="1420560" cy="67464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316240" y="2071800"/>
              <a:ext cx="1411200" cy="666720"/>
              <a:chOff x="2316240" y="2071800"/>
              <a:chExt cx="1411200" cy="666720"/>
            </a:xfrm>
          </p:grpSpPr>
          <p:sp>
            <p:nvSpPr>
              <p:cNvPr id="120" name=""/>
              <p:cNvSpPr/>
              <p:nvPr/>
            </p:nvSpPr>
            <p:spPr>
              <a:xfrm>
                <a:off x="2316240" y="2071800"/>
                <a:ext cx="1409760" cy="666720"/>
              </a:xfrm>
              <a:prstGeom prst="roundRect">
                <a:avLst>
                  <a:gd name="adj" fmla="val 23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17680" y="2243880"/>
                <a:ext cx="1409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5888160" y="5129280"/>
            <a:ext cx="2249280" cy="1284120"/>
            <a:chOff x="5888160" y="5129280"/>
            <a:chExt cx="2249280" cy="1284120"/>
          </a:xfrm>
        </p:grpSpPr>
        <p:sp>
          <p:nvSpPr>
            <p:cNvPr id="123" name=""/>
            <p:cNvSpPr/>
            <p:nvPr/>
          </p:nvSpPr>
          <p:spPr>
            <a:xfrm>
              <a:off x="5888160" y="5129280"/>
              <a:ext cx="2249280" cy="1284120"/>
            </a:xfrm>
            <a:prstGeom prst="roundRect">
              <a:avLst>
                <a:gd name="adj" fmla="val 12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189840" y="5354640"/>
              <a:ext cx="1719000" cy="824040"/>
              <a:chOff x="6189840" y="5354640"/>
              <a:chExt cx="1719000" cy="824040"/>
            </a:xfrm>
          </p:grpSpPr>
          <p:sp>
            <p:nvSpPr>
              <p:cNvPr id="125" name=""/>
              <p:cNvSpPr/>
              <p:nvPr/>
            </p:nvSpPr>
            <p:spPr>
              <a:xfrm>
                <a:off x="7307280" y="5354640"/>
                <a:ext cx="601560" cy="378000"/>
              </a:xfrm>
              <a:prstGeom prst="roundRect">
                <a:avLst>
                  <a:gd name="adj" fmla="val 417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89840" y="5877000"/>
                <a:ext cx="299880" cy="301680"/>
              </a:xfrm>
              <a:custGeom>
                <a:avLst/>
                <a:gdLst/>
                <a:ahLst/>
                <a:rect l="l" t="t" r="r" b="b"/>
                <a:pathLst>
                  <a:path w="832" h="840">
                    <a:moveTo>
                      <a:pt x="0" y="0"/>
                    </a:moveTo>
                    <a:lnTo>
                      <a:pt x="831" y="0"/>
                    </a:lnTo>
                    <a:lnTo>
                      <a:pt x="622" y="839"/>
                    </a:lnTo>
                    <a:lnTo>
                      <a:pt x="208" y="8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64360" y="5430960"/>
                <a:ext cx="301680" cy="298440"/>
              </a:xfrm>
              <a:custGeom>
                <a:avLst/>
                <a:gdLst/>
                <a:ahLst/>
                <a:rect l="l" t="t" r="r" b="b"/>
                <a:pathLst>
                  <a:path w="836" h="828">
                    <a:moveTo>
                      <a:pt x="413" y="0"/>
                    </a:moveTo>
                    <a:lnTo>
                      <a:pt x="835" y="411"/>
                    </a:lnTo>
                    <a:lnTo>
                      <a:pt x="413" y="827"/>
                    </a:lnTo>
                    <a:lnTo>
                      <a:pt x="0" y="411"/>
                    </a:lnTo>
                    <a:lnTo>
                      <a:pt x="413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83480" y="5578560"/>
                <a:ext cx="376200" cy="449280"/>
              </a:xfrm>
              <a:custGeom>
                <a:avLst/>
                <a:gdLst/>
                <a:ahLst/>
                <a:rect l="l" t="t" r="r" b="b"/>
                <a:pathLst>
                  <a:path w="1043" h="1246">
                    <a:moveTo>
                      <a:pt x="520" y="0"/>
                    </a:moveTo>
                    <a:lnTo>
                      <a:pt x="1042" y="1245"/>
                    </a:lnTo>
                    <a:lnTo>
                      <a:pt x="0" y="1245"/>
                    </a:lnTo>
                    <a:lnTo>
                      <a:pt x="520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922400" y="2709720"/>
            <a:ext cx="366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03400" y="5699160"/>
            <a:ext cx="3745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17600" y="5257800"/>
            <a:ext cx="2092320" cy="551160"/>
            <a:chOff x="2217600" y="5257800"/>
            <a:chExt cx="2092320" cy="551160"/>
          </a:xfrm>
        </p:grpSpPr>
        <p:sp>
          <p:nvSpPr>
            <p:cNvPr id="132" name=""/>
            <p:cNvSpPr/>
            <p:nvPr/>
          </p:nvSpPr>
          <p:spPr>
            <a:xfrm>
              <a:off x="2217600" y="5337000"/>
              <a:ext cx="2092320" cy="387360"/>
            </a:xfrm>
            <a:prstGeom prst="roundRect">
              <a:avLst>
                <a:gd name="adj" fmla="val 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217600" y="5257800"/>
              <a:ext cx="2082960" cy="551160"/>
              <a:chOff x="2217600" y="5257800"/>
              <a:chExt cx="2082960" cy="551160"/>
            </a:xfrm>
          </p:grpSpPr>
          <p:sp>
            <p:nvSpPr>
              <p:cNvPr id="134" name=""/>
              <p:cNvSpPr/>
              <p:nvPr/>
            </p:nvSpPr>
            <p:spPr>
              <a:xfrm>
                <a:off x="2217600" y="5345280"/>
                <a:ext cx="2082960" cy="3776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17600" y="5257800"/>
                <a:ext cx="20829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odel and Co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 flipH="1" flipV="1">
            <a:off x="6848640" y="3112560"/>
            <a:ext cx="25200" cy="193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931080" y="3810600"/>
            <a:ext cx="1746360" cy="779760"/>
            <a:chOff x="6931080" y="3810600"/>
            <a:chExt cx="1746360" cy="779760"/>
          </a:xfrm>
        </p:grpSpPr>
        <p:sp>
          <p:nvSpPr>
            <p:cNvPr id="138" name=""/>
            <p:cNvSpPr/>
            <p:nvPr/>
          </p:nvSpPr>
          <p:spPr>
            <a:xfrm>
              <a:off x="6931080" y="3948120"/>
              <a:ext cx="1746360" cy="504720"/>
            </a:xfrm>
            <a:prstGeom prst="roundRect">
              <a:avLst>
                <a:gd name="adj" fmla="val 3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931080" y="3810600"/>
              <a:ext cx="1736640" cy="779760"/>
              <a:chOff x="6931080" y="3810600"/>
              <a:chExt cx="1736640" cy="779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931080" y="3948120"/>
                <a:ext cx="1736640" cy="503280"/>
              </a:xfrm>
              <a:prstGeom prst="roundRect">
                <a:avLst>
                  <a:gd name="adj" fmla="val 3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32520" y="3810600"/>
                <a:ext cx="1735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Transform 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r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81080" y="206064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31760" y="37735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30400" y="52689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38240" y="4138560"/>
            <a:ext cx="1987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84480" y="3502080"/>
            <a:ext cx="2249640" cy="1284120"/>
            <a:chOff x="3984480" y="3502080"/>
            <a:chExt cx="2249640" cy="1284120"/>
          </a:xfrm>
        </p:grpSpPr>
        <p:sp>
          <p:nvSpPr>
            <p:cNvPr id="147" name=""/>
            <p:cNvSpPr/>
            <p:nvPr/>
          </p:nvSpPr>
          <p:spPr>
            <a:xfrm>
              <a:off x="3984480" y="3502080"/>
              <a:ext cx="2249640" cy="1284120"/>
            </a:xfrm>
            <a:prstGeom prst="roundRect">
              <a:avLst>
                <a:gd name="adj" fmla="val 12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284720" y="3728880"/>
              <a:ext cx="1719360" cy="825480"/>
              <a:chOff x="4284720" y="3728880"/>
              <a:chExt cx="1719360" cy="825480"/>
            </a:xfrm>
          </p:grpSpPr>
          <p:sp>
            <p:nvSpPr>
              <p:cNvPr id="149" name=""/>
              <p:cNvSpPr/>
              <p:nvPr/>
            </p:nvSpPr>
            <p:spPr>
              <a:xfrm>
                <a:off x="5402160" y="3728880"/>
                <a:ext cx="6019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84720" y="4251240"/>
                <a:ext cx="301680" cy="303120"/>
              </a:xfrm>
              <a:custGeom>
                <a:avLst/>
                <a:gdLst/>
                <a:ahLst/>
                <a:rect l="l" t="t" r="r" b="b"/>
                <a:pathLst>
                  <a:path w="837" h="844">
                    <a:moveTo>
                      <a:pt x="0" y="0"/>
                    </a:moveTo>
                    <a:lnTo>
                      <a:pt x="836" y="0"/>
                    </a:lnTo>
                    <a:lnTo>
                      <a:pt x="627" y="843"/>
                    </a:lnTo>
                    <a:lnTo>
                      <a:pt x="209" y="8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59240" y="3805200"/>
                <a:ext cx="301680" cy="300240"/>
              </a:xfrm>
              <a:custGeom>
                <a:avLst/>
                <a:gdLst/>
                <a:ahLst/>
                <a:rect l="l" t="t" r="r" b="b"/>
                <a:pathLst>
                  <a:path w="837" h="833">
                    <a:moveTo>
                      <a:pt x="412" y="0"/>
                    </a:moveTo>
                    <a:lnTo>
                      <a:pt x="836" y="413"/>
                    </a:lnTo>
                    <a:lnTo>
                      <a:pt x="412" y="832"/>
                    </a:lnTo>
                    <a:lnTo>
                      <a:pt x="0" y="413"/>
                    </a:lnTo>
                    <a:lnTo>
                      <a:pt x="412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8360" y="3952800"/>
                <a:ext cx="374760" cy="449280"/>
              </a:xfrm>
              <a:custGeom>
                <a:avLst/>
                <a:gdLst/>
                <a:ahLst/>
                <a:rect l="l" t="t" r="r" b="b"/>
                <a:pathLst>
                  <a:path w="1041" h="1246">
                    <a:moveTo>
                      <a:pt x="518" y="0"/>
                    </a:moveTo>
                    <a:lnTo>
                      <a:pt x="1040" y="1245"/>
                    </a:lnTo>
                    <a:lnTo>
                      <a:pt x="0" y="1245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1822320" y="3809880"/>
            <a:ext cx="2093040" cy="336600"/>
            <a:chOff x="1822320" y="3809880"/>
            <a:chExt cx="2093040" cy="336600"/>
          </a:xfrm>
        </p:grpSpPr>
        <p:sp>
          <p:nvSpPr>
            <p:cNvPr id="154" name=""/>
            <p:cNvSpPr/>
            <p:nvPr/>
          </p:nvSpPr>
          <p:spPr>
            <a:xfrm>
              <a:off x="2003400" y="3809880"/>
              <a:ext cx="173520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822320" y="3809880"/>
              <a:ext cx="2093040" cy="333360"/>
              <a:chOff x="1822320" y="3809880"/>
              <a:chExt cx="2093040" cy="33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2003400" y="3809880"/>
                <a:ext cx="17319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1822320" y="3809880"/>
                <a:ext cx="2093040" cy="331920"/>
                <a:chOff x="1822320" y="3809880"/>
                <a:chExt cx="2093040" cy="3319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03400" y="3809880"/>
                  <a:ext cx="1730520" cy="3319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1822320" y="3809880"/>
                  <a:ext cx="2093040" cy="331920"/>
                  <a:chOff x="1822320" y="3809880"/>
                  <a:chExt cx="2093040" cy="3319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003400" y="3809880"/>
                    <a:ext cx="1730520" cy="331920"/>
                  </a:xfrm>
                  <a:prstGeom prst="roundRect">
                    <a:avLst>
                      <a:gd name="adj" fmla="val 47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822320" y="3809880"/>
                    <a:ext cx="2093040" cy="228960"/>
                  </a:xfrm>
                  <a:prstGeom prst="roundRect">
                    <a:avLst>
                      <a:gd name="adj" fmla="val 47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ts val="18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 and Documen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ed transformation process ensures consistency, stability and 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business logic: spend time o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pplication should be doing, no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is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tability: enhance application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ts val="3912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MG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M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SM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multiple refinements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24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-how is in the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263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MG M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7680" y="2131920"/>
            <a:ext cx="3038400" cy="3124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62280" y="1905120"/>
            <a:ext cx="492768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1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ased on modeling with 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Supports full lifecy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2142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;MS Gothic;HG "/>
              </a:rPr>
              <a:t>analysis, design, implementation, deployment, maintenance, evolution &amp; integration with la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uilds in Interoperability and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Lowers initial cost and maximizes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31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4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roMDA (M31)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16240" y="2759040"/>
            <a:ext cx="4122720" cy="267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uter Zoons</dc:creator>
  <dc:description/>
  <dc:language>en-US</dc:language>
  <cp:lastModifiedBy/>
  <cp:revision>0</cp:revision>
  <dc:subject/>
  <dc:title>AndroMDA</dc:title>
</cp:coreProperties>
</file>