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9EF4F-1059-4BCF-8A1A-77D974CF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3BE0-41EB-4989-9BEB-4058C2D4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9A6AE-CCB3-4232-81AE-2B9F8442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ECE2-6EDC-4E98-B934-C7140BAA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E48F-ED6C-4A4F-A4B7-2423E263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D264-656D-4F89-A50B-0B0F558D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56C7-B281-4872-BD70-74C4286D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7B1A-C974-40CE-BCFD-C65EEBDF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A225-2676-480C-8124-B6D2D8A4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EBE9-79CE-4DC3-9C10-7D79343C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ACE7-FD1D-4B98-AF2B-E62F0EF7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F930B-1A49-4A5C-9C81-5E8947FF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DF18-C252-4E30-957E-EB702954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EFBA-77E9-4C9E-A595-2E5F1A90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CD27-D325-4E25-B695-39CFF4B1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0400-2A97-4658-88AD-3051D7D5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0D76-642F-4B66-BDB1-4C2CAF9D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15BF-F783-4D25-BEAA-70270F60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12675-13A7-4F78-830C-5BA1845E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7A030-D88C-4BF8-8048-644704D3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3D931-B4FF-4CE5-9BF7-B3DAA3D5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C3B4-28CF-4FE9-BB13-06458AC2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56DA-5C78-453E-934E-71CB2E17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3A193-4078-480A-802E-1261FCC9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08E4-E753-47A4-9A0C-D8843240F1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D13E-2EAF-41BE-9E3D-0063395DE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dbrandon@yahoo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team.andromda.org/docs/andromda-translation-libraries/developing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team.andromda.org/docs/andromda-translation-libraries/index.html" TargetMode="External"/><Relationship Id="rId2" Type="http://schemas.openxmlformats.org/officeDocument/2006/relationships/hyperlink" Target="mailto:andromda-user@lists.sourceforge.net" TargetMode="External"/><Relationship Id="rId3" Type="http://schemas.openxmlformats.org/officeDocument/2006/relationships/hyperlink" Target="mailto:andromda-user@lists.sourceforge.net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ndroMDA 3.x </a:t>
            </a:r>
            <a:br>
              <a:rPr sz="50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anslation-Librar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d Brand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hdbrandon@yahoo.com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vember 30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, 200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oMDA Query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son::findByNamespaceAndRole(namespace:String, role:String):Collection (Person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Inst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-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person | person.personRoles -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s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person.personRoles -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personRole | personRole.role.namespace.name = namespace and personRole.role.name = role ) 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bern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.dcri.authorization.persistence.Pers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s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 fe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son.personRol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sonRo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sonRole.role.namespace.name = 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sonRole.role.name =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oMDA Query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roMDA Validation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s OCL validation constraints (currently supports only 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(by AndroMDA metafacades) to validate models during model processing / code gen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used for other uses as well (i.e. design by contra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roMDA Validation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ithin the SpringEntityAssociationEnd metafaca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ringEntityAssociationE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e2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osi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greg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therEnd.composi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therEnd.aggre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roMDA Validation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Use within the ParameterFacade 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32767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roMDA Validation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3116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used within a Bpm4Struts metafaca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4572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oMDA Validation Libr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utput from mode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686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ossible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constraint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ing unique constraints (across multiple attrib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x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sher inv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nstan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 -&g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A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1,p2 | p1 &lt;&gt; p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p1.groupCo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1.publisherCode ) &lt;&gt; ( p2.groupCo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2.publisherCod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by Contract (DB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ass and its clients have a contract with each oth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lient must guarantee certain conditions before calling a operation on the class (the preconditions).  The class guarantees certain conditions after the call (the postconditions). If the pre and post conditions are included in a form that the compiler can check, then any violation of the contract between caller and class can be detected immediate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 tes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a Translation-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oMDA Translation-Library Maven plu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ng a translation-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OCL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team.andromda.org/docs/andromda-translation-libraries/developing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L Action Semantics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constraint translation-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ore complex constraints with the validation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it Test translation-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lation-Libraries – what are th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oMDA 3.x Plug-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ther than cartrid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modeling languages (i.e. OCL) into implementation specific languages such as Java,  during model processing / cod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ranslations make up a library (i.e. jar fil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he query translation-library, currently consists of two translations: EJB-QL and Hibernate-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team.andromda.org/docs/andromda-translation-libraries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andromda-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user@lists.sourceforge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lation-Libraries –  how do they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d on the CLASSPATH and “discovered” by the AndroMDA Core (just like a cartri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ed up and used from within metafacades / cartri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ily used from the translateConstraint operations on ModelElementFacade of the UML metafac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directly from the org.andromda.core.translation.ExpressionTrans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CL 2.0 is currently the only supporte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L Action Seman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L – Object Constraint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Constraint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as official way to express constraints on UML mod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ecise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llowing us to add what isn’t possible to model with diagrams al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L – Object Constraint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L 2.0 : OCL now encompasses much more than just constraints, can also be used as a full Object Quer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Available Translation-Libr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ly 2 translation-libraries have been writt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oMDA Query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oMDA Validation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oMDA Query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lates OC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nstraints to Hibernate-QL or EJB-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d by spring/ejb/hibernate cartri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s you to model your finder implementations in a standard way (i.e. not tied to EJB, Hibernate, et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oMDA Query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ject::findByType( type:String ):Collection (Project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Inst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-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project | project.type = type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-QL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DISTIN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roject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ject proj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ject.type = ?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bernate-Q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.andromda.sample.Proj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ject where project.type =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0T20:01:26Z</dcterms:created>
  <dc:creator>Chad Brandon</dc:creator>
  <dc:description/>
  <dc:language>en-US</dc:language>
  <cp:lastModifiedBy>Chad Brandon</cp:lastModifiedBy>
  <dcterms:modified xsi:type="dcterms:W3CDTF">2004-11-27T12:59:21Z</dcterms:modified>
  <cp:revision>180</cp:revision>
  <dc:subject/>
  <dc:title>AndroMDA – OCL Translation</dc:title>
</cp:coreProperties>
</file>