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8F5-9782-430A-8790-B4BD384D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ACF-B218-4E71-9F17-4FEADA4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8D3-F270-4CCA-A8FC-CF0F3F5D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EFE-5E7F-4884-8547-FBDFA189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D9AF-22FA-42E8-B088-0D0103A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51DF-D0C1-4E4F-A400-8073B0A7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5981-5F33-4333-B581-22A1A400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B017-D9F4-4935-87C6-485CEAF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441D-CF2C-4EFA-A401-E9BDA14E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FBD2-CE11-45AA-8B6E-91FEC88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E7B4-C71C-4CC3-B67F-41BFAC8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0C1-2015-4EB5-A87F-354DBB8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74F-4DFC-4B7F-A93C-C0E7070B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41E0-7060-4720-ADAC-C6CB3CA4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8A81-4CC6-4557-AA72-0C10F9F1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DD29-1C10-4D1B-B21E-6C3DD6A7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3024-E2D0-47FA-967C-38AB8C50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E98-7870-449B-BCF6-054ED641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C5E-E272-49A7-8262-22D85B96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CEB-9997-495C-BD02-70C1BC41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0AB-4550-44D7-AA07-B82032F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BC2-6D05-4800-8D6B-B1FA4A0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B97-11A0-43D9-981D-93239CD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95A-041E-4B31-84D7-3EDC7773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AD07-4BB0-4C4A-8EBD-9E6058A399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A4C6-F485-495F-B4F4-BFD91E3982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team.andromda.org/docs" TargetMode="External"/><Relationship Id="rId2" Type="http://schemas.openxmlformats.org/officeDocument/2006/relationships/hyperlink" Target="mailto:Andromda-user@lists.sourceforge.ne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330066"/>
                </a:solidFill>
                <a:latin typeface="Arial"/>
              </a:rPr>
              <a:t>AndroMDA</a:t>
            </a:r>
            <a:br>
              <a:rPr sz="4800"/>
            </a:br>
            <a:r>
              <a:rPr b="1" lang="nl-BE" sz="2400" spc="-1" strike="noStrike">
                <a:solidFill>
                  <a:srgbClr val="330066"/>
                </a:solidFill>
                <a:latin typeface="Arial"/>
              </a:rPr>
              <a:t>Practical bpm4strut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uter Zoons, wouter.zoons@advalvas.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ler with Factory and implementation cla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them once per &lt;&lt;FrontEndController&gt;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called somewhere by the process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ple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ing &amp; display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ng item from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ing item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e-tuning using tagged val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itial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648320" cy="4071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ing stereo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051280" cy="1517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51814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erring contr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5715000" cy="425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0509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ame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5334120" cy="4411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4724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900" spc="-1" strike="noStrike">
                <a:solidFill>
                  <a:srgbClr val="330066"/>
                </a:solidFill>
                <a:latin typeface="Arial"/>
              </a:rPr>
              <a:t>Sho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ing i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70102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tem detai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70102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featu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loading pag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p-calendars, widg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rtable/pageable 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ity, disabled buttons/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 validation (email, pattern, range, 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help, toolt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dcrum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tionalization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ing to other technologies/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for UML 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bpm4struts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MDA cartrid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L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es Struts co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SPs, Actions,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, style, input validation, online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estions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eam.andromda.org/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Andromda-user@lists.sourceforge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ted code (roughly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 logic (6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ons, forwarding, exception hand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 code (2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to back-end, fetching &amp; storin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(2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Graphs (State Machi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on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ons w/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errabl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-c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define process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334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oll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ler classes declare specific user-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9482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in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ged values refine generated Strut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5916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logic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on (MV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(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per &lt;&lt;FrontEndEvent&gt;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sentation co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sp per &lt;&lt;FrontEndView&gt;&gt; (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iles to separate oftenly regenerated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23:23:13Z</dcterms:created>
  <dc:creator>Wouter Zoons</dc:creator>
  <dc:description/>
  <dc:language>en-US</dc:language>
  <cp:lastModifiedBy>Wouter Zoons</cp:lastModifiedBy>
  <dcterms:modified xsi:type="dcterms:W3CDTF">2004-11-02T19:58:12Z</dcterms:modified>
  <cp:revision>14</cp:revision>
  <dc:subject/>
  <dc:title>AndroMDA Practical bpm4struts</dc:title>
</cp:coreProperties>
</file>