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A29F4-2791-4719-900D-BB4560DE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715B-0FFD-4601-8A8E-1CEE1310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3482-E8ED-40E4-AC45-61393F7E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33D5-9DA0-4252-8D81-C42281F3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D739-252C-4263-B54F-676FF998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8948-BF0B-4F2D-B1D1-F1A68760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E3A2-C0AF-4EE8-ABCC-43759D8A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07BA-54D7-43AB-B182-C37458FE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2BEC-72EA-454D-B9FC-5D4DE03E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3991-1152-49DD-9F71-D852874F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CBAC-9B87-42D0-BCE9-BF78A30B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CA74-3945-488F-865C-F194FC44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CD6C-5C8B-4129-94B1-B40CE0BD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DFBC-EC6F-457B-8712-A957699D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B9A5-1BE0-4BC4-8061-A37A3554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4FC7-3A6F-4CB9-AB3A-AB1DA498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8CF0-BDEE-432A-AD3E-94E65A40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1840-E3A6-4E53-9106-7AE5B41A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19985-E491-4CF4-AEB5-8995EF50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B6CB-6997-460A-BB85-8517431F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046B-5475-417D-9345-1B758A80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7ADC-B52A-442C-863A-77FDDE40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9ECF-6BC6-44EE-BB1D-E6462A77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D3E0-B744-429C-BDEF-82D9BA2D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169C-3586-4606-8D2E-BE5C723A99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737B-A811-44D1-997C-3B267A169D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team.andromda.org/docs" TargetMode="External"/><Relationship Id="rId2" Type="http://schemas.openxmlformats.org/officeDocument/2006/relationships/hyperlink" Target="mailto:Andromda-user@lists.sourceforge.net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m.andromda.org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000" spc="-1" strike="noStrike">
                <a:solidFill>
                  <a:srgbClr val="ffffff"/>
                </a:solidFill>
                <a:latin typeface="Arial"/>
              </a:rPr>
              <a:t>AndroMD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400" spc="-1" strike="noStrike">
                <a:solidFill>
                  <a:srgbClr val="000000"/>
                </a:solidFill>
                <a:latin typeface="Arial"/>
              </a:rPr>
              <a:t>Introduction to an open-source MDA sol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In practice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1947960"/>
            <a:ext cx="5334120" cy="4411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76720" y="1981080"/>
            <a:ext cx="47242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roject generator: 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generate a template J2E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Schema2XMI: 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read a database and create a UML model from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dmin-Console: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dministrate any JDBC-compliant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ing &amp; display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ng item fro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item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-tuning cod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648320" cy="3586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2096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stere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324480" y="4024440"/>
            <a:ext cx="2051280" cy="1336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51814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erring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2116080"/>
            <a:ext cx="5715000" cy="3751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20509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334120" cy="3886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048120" y="1523880"/>
            <a:ext cx="47242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h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g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oading pag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p-calendars, wi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able/pageable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, disabled buttons/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validation (email, pattern, range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help, tool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dcr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izatio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Topics covered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Classical vs. Modern software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odel Driven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ndroM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ndroMDA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Questions &amp;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team.andromda.org/do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Andromda-user@lists.sourceforge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Classical vs. Modern software 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Classical: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translating ideas into platform specific instructions; ASM, C, C++, Java, Pro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odern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igitizing/visualizing ideas into a platform independent language model; UML, X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velopment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2057400"/>
            <a:ext cx="7543800" cy="3504960"/>
            <a:chOff x="762120" y="2057400"/>
            <a:chExt cx="7543800" cy="3504960"/>
          </a:xfrm>
        </p:grpSpPr>
        <p:grpSp>
          <p:nvGrpSpPr>
            <p:cNvPr id="114" name=""/>
            <p:cNvGrpSpPr/>
            <p:nvPr/>
          </p:nvGrpSpPr>
          <p:grpSpPr>
            <a:xfrm>
              <a:off x="762120" y="2514600"/>
              <a:ext cx="3200400" cy="2286000"/>
              <a:chOff x="762120" y="2514600"/>
              <a:chExt cx="3200400" cy="228600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120" y="4419360"/>
                <a:ext cx="380880" cy="381240"/>
              </a:xfrm>
              <a:prstGeom prst="smileyFace">
                <a:avLst>
                  <a:gd name="adj" fmla="val 9282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1371600" y="2514600"/>
                <a:ext cx="2590920" cy="1371600"/>
                <a:chOff x="1371600" y="2514600"/>
                <a:chExt cx="2590920" cy="13716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71600" y="2514600"/>
                  <a:ext cx="2590920" cy="1371600"/>
                </a:xfrm>
                <a:prstGeom prst="cloudCallout">
                  <a:avLst>
                    <a:gd name="adj1" fmla="val -48407"/>
                    <a:gd name="adj2" fmla="val 85763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971800" y="2743200"/>
                  <a:ext cx="609480" cy="38088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828800" y="3276360"/>
                  <a:ext cx="304920" cy="304920"/>
                </a:xfrm>
                <a:custGeom>
                  <a:avLst/>
                  <a:gdLst>
                    <a:gd name="textAreaLeft" fmla="*/ 66960 w 304920"/>
                    <a:gd name="textAreaRight" fmla="*/ 237960 w 304920"/>
                    <a:gd name="textAreaTop" fmla="*/ 66960 h 304920"/>
                    <a:gd name="textAreaBottom" fmla="*/ 23796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905120" y="2819160"/>
                  <a:ext cx="304560" cy="304920"/>
                </a:xfrm>
                <a:prstGeom prst="diamond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438280" y="2971800"/>
                  <a:ext cx="381240" cy="457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"/>
            <p:cNvSpPr/>
            <p:nvPr/>
          </p:nvSpPr>
          <p:spPr>
            <a:xfrm>
              <a:off x="5867280" y="2057400"/>
              <a:ext cx="2286000" cy="1066680"/>
            </a:xfrm>
            <a:prstGeom prst="flowChartMultidocumen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Java, C++, Per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38480" y="2819520"/>
              <a:ext cx="1447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Class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791320" y="4267080"/>
              <a:ext cx="2286000" cy="1295280"/>
              <a:chOff x="5791320" y="4267080"/>
              <a:chExt cx="2286000" cy="1295280"/>
            </a:xfrm>
          </p:grpSpPr>
          <p:sp>
            <p:nvSpPr>
              <p:cNvPr id="125" name=""/>
              <p:cNvSpPr/>
              <p:nvPr/>
            </p:nvSpPr>
            <p:spPr>
              <a:xfrm>
                <a:off x="5791320" y="4267080"/>
                <a:ext cx="2286000" cy="1295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6095880" y="4495680"/>
                <a:ext cx="1752840" cy="838080"/>
                <a:chOff x="6095880" y="4495680"/>
                <a:chExt cx="1752840" cy="838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238880" y="4495680"/>
                  <a:ext cx="609840" cy="380880"/>
                </a:xfrm>
                <a:prstGeom prst="rect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5880" y="5028840"/>
                  <a:ext cx="304920" cy="304920"/>
                </a:xfrm>
                <a:custGeom>
                  <a:avLst/>
                  <a:gdLst>
                    <a:gd name="textAreaLeft" fmla="*/ 66960 w 304920"/>
                    <a:gd name="textAreaRight" fmla="*/ 237960 w 304920"/>
                    <a:gd name="textAreaTop" fmla="*/ 66960 h 304920"/>
                    <a:gd name="textAreaBottom" fmla="*/ 23796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172200" y="4571640"/>
                  <a:ext cx="304920" cy="304920"/>
                </a:xfrm>
                <a:prstGeom prst="diamond">
                  <a:avLst/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705720" y="4724280"/>
                  <a:ext cx="380880" cy="457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 flipV="1">
              <a:off x="3657600" y="3200400"/>
              <a:ext cx="19810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57600" y="441972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4572000"/>
              <a:ext cx="1447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Mod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553080" y="3200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0" y="3429000"/>
              <a:ext cx="1447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Trans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utomated transformation process ensures consistency, stability and 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Focus on business logic: spend time on </a:t>
            </a: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the application should be doing, not </a:t>
            </a: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it is do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ortability: enhance application 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Model Driven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MG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PIM 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PSM 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(multiple refinements pos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now-how is in the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MDA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ddresses key issues: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adline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udget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Legacy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AndroM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Open-source: </a:t>
            </a:r>
            <a:r>
              <a:rPr b="0" lang="nl-BE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team.andromd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Supports XMI, O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Features EJB, Hibernate, Spring, XML Schema, Java, Struts, OCL translations/qu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04852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22:07:37Z</dcterms:created>
  <dc:creator>Wouter Zoons</dc:creator>
  <dc:description/>
  <dc:language>en-US</dc:language>
  <cp:lastModifiedBy>Wouter Zoons</cp:lastModifiedBy>
  <dcterms:modified xsi:type="dcterms:W3CDTF">2004-12-05T23:46:39Z</dcterms:modified>
  <cp:revision>5</cp:revision>
  <dc:subject/>
  <dc:title>AndroMDA</dc:title>
</cp:coreProperties>
</file>