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  <p:sldId id="330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slide" Target="slides/slide75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-360" y="-7475400"/>
            <a:ext cx="360" cy="163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1"/>
          <p:cNvSpPr/>
          <p:nvPr/>
        </p:nvSpPr>
        <p:spPr>
          <a:xfrm>
            <a:off x="0" y="-7167600"/>
            <a:ext cx="1440" cy="157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C/C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ith ELF and 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s great with bins like a router system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6B5-4396-4655-99FC-AC507B5B2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768-A220-47A4-942C-4CE76F45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8B8-9006-44BA-9DB9-0A75E352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B78-602D-4C6A-83C8-ECFD2849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343D-F1A6-4BE1-8EC6-56AA0CC4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E195-F41F-4F9C-97AE-ED60B7A1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4543-BD0C-4870-9074-ED4A2E67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8C1C-663B-47D2-BDF9-B2EA0BF4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C235-7D66-48C0-BC25-F9F315E1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909-EB87-4BB1-81F9-FE881D10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6ED1-A6D6-437F-9B43-862AF3F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D34-A1E6-46E9-86F4-0052B055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3F4F-2F13-46BC-88B0-D15FA7C2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6A37-6EBF-4A1C-A808-A8E05D51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7662-BDC6-4948-AD2E-1279AB29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AE81-F10E-4B38-A47A-216447B3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57F6-E2E3-4DD4-B884-55E6F090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F4FE-0BB9-4771-B3A7-C128335B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9237-2BA3-4790-AB89-E6917C8E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0D1F2-7E7C-4556-A471-7E68E4B4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09AC-0562-49E8-834E-C0EF9C3C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D7C3F-0953-48E2-9CDB-F7DC9EAF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0EAA-6A17-4820-BF70-88247E89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87BD-A746-49F2-806A-F4CB2D60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6C51-8B0D-4A5E-8A12-222038E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EF172-F6B4-4D22-93F0-B69FFB66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0522-F528-484A-83F1-FF4DFEF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DE1E-430D-487B-89D6-FEDB761A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A74C-8732-43FC-B10E-21F04624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BA4F-0A4C-45ED-89DC-423BF721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47391-7BE8-4A41-B268-B943678DE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5607E-726A-4064-AE08-7F1A9F69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9D3E-E4C8-4A88-BF59-C0BA1C92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062-F83C-4551-9E0F-0E156BC3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05BFD-E816-4579-9C4A-391E51D0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A3375-29D3-47A3-AF3E-AB2AFC4B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FA15-A3E3-42BC-82F5-4D5CFDD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34B20-075C-4282-8224-1B73955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910DC-1532-4908-9885-C624AE0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8137-34AD-4E4D-885A-353B8A12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8FD0-18A7-45D2-A80F-4E1C3B07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3A2F7-F43A-4DC0-8E45-30422A89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885D-DBF0-4193-B0B7-ED797137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C6D0B-8AC1-40CC-A6BA-26E177A6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A45-E90A-4EB0-BB6A-A53EDD03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3CCF3-972F-4366-A722-F19C03A6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631D3-D069-4CE3-B003-D1B9950DF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02C53-7CA6-4101-8EDD-F90C703C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28E4-F9BF-4D29-BF7A-8B2EE235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4695D-2E70-485F-9A32-6E53764F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BC698-3058-459A-A742-35CAAEF9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3E916-9C87-4F3E-8FB0-183F7439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CA42A-1BEA-461D-85C9-6DDA233B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A731E-0204-41ED-BCC2-04E28933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D0F1D-DD74-415D-BE14-ED6C9574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0CB-23A7-4454-B770-66BAD342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F139B-09BD-4DAC-873E-C544E8CEF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DA33-5B79-4223-B113-1B71AC3C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73D54-EA4F-4A82-AF69-D4A98420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3EA8D-AB2C-469E-A35A-EF3C8AA3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7DACD-ED40-48B7-9BAE-64337944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B6759-85F6-41DD-BF1D-46716AC2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ABD9C-CC26-41D8-87A4-7E6F2526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64B10-A025-40E0-94E8-5130946A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0800D-F554-4257-BDAD-5D3C28E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5D2A-913D-446B-9982-FBFF26BA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E5C3-1D6A-460A-9B97-72BBE808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878B-D3EE-4A2C-B01B-D967288F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2585-B5C8-4B8A-8AAD-45B912A47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B9CD-7A62-4B79-9D6D-628E4E35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8A00-80CD-4D13-8F3D-1AA351B9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6B3-E3B8-4141-A921-8049DD30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1B37EB-5C04-45A0-8D4B-09955F5D3361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CC07A-1DAD-4DE1-88BE-E676B1B9CDFC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4C9D9-C3F9-4851-9E29-0B9F47E8C9B1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24980-555A-4824-BE88-D5A419737079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27133-6BE4-464E-B70D-7D37C23551DF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6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89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lnSpc>
                <a:spcPct val="7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158B95-E7BE-4031-A79F-5DCE9BB88606}" type="slidenum">
              <a:rPr b="0" lang="en-GB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ecurityfocus.com/infocus/1872" TargetMode="External"/><Relationship Id="rId2" Type="http://schemas.openxmlformats.org/officeDocument/2006/relationships/hyperlink" Target="http://www.securityfocus.com/infocus/187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1044360"/>
            <a:ext cx="6781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ntroduction to Reverse Engineering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1430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red DeMot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ucial Security, In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ack Hat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tic Analysis (Dead Listing)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raditional disassembl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32Da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bjdump/dumpb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Pro (interac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de does not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assembler parses the file format and related code 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ood disassemblers do deep recursive analysis to ensure proper instruction disassemb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the user the ability to look at what code will do without actually running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well suited for debug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viewing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, Inspecting the contents of mem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4960" y="88920"/>
            <a:ext cx="822816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So what do we need to get started?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3712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complex, because computers are 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enerally we’re working without source code or project docu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 Software” familiarity is a m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ting system specifics (Win and *NI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ypical APIs like strcpy, printf, gets, memset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l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ilers, linkers/loaders, debug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sembly language programm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etency with Reversing/Debugging to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..And a solid RE Process or Method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verse Engineering Methodology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Levels at which RE can be don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level or system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that help determine the general structure of the progra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st of the information comes from the OS and, hence, OS monitoring utilit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k Sys-internals here like, regmon, filemon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*trace and in particular WIRESHA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de-level rever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echniques provide detailed information on a selected code seg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olves extracting design concepts and algorithms from binary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.E … we’re looking at .asm he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Quick System and Compiler 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erating Syste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OS is a program that manages the computer’s hardware and software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ood reverser must understand what the OS does and how it does 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will focus on the Microsoft Windows and *NIX 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ompilers and Interpre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ilers translate high-level programming languages (e.g., C, C++) into machine code that can be executed by a computer’s CP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me compilers (e.g., for Java and .NET) generate bytecode instead of object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ytecode is interpreted first by a program not the CPU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greatest obstacle in deciphering compiler generated code is the optimizations applied by most modern compil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ptimized code is often unintuitive and difficult to re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loop unrolling, function in-lining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Data Type Inform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d languages like C require that variables be ty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that information, before even trying to figure code mean is often the key to RE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ten this information can be derived from variables passed to library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ucture recovery is a tad more difficult be very impor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are file formats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nderstanding the composition of a file is anther key to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les generally adhere to a specific forma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 OS executables (ELF/PE) this is tr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ypical executable files are created from source code and libraries by a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files can be created by anything from a text editor to an mp3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troduc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Typical Content in an Executable Fi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chine c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structions the program will ru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de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addr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tic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ader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a Section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ws the loader to find required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oader is an OS program that solidifies the runtime environment of an application when it starts 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Lin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securityfocus.com/infocus/187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4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nking/Loading on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4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securityfocus.com/infocus/187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ecutables can have user defined s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LF – Executable and Linker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iginally published by UNIX system laboratories as a dynamic, linkable format to be used in various UNIX plat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hat uses EL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u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ola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modern BSD based unix’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ts do a quick dissection of the major 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header contains various information the operating system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ident      – Contains various identification fields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ndianess, ELF version, Operat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type       – Identifies the object file type includ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locatable, executable, or core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machine – Contains the processor type including Inte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0386, HPPA, PowerP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version   – Contains the file version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ntry      -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ains the entry point for th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phoff      – Contains the program files header offset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shoff      – Contains the section header offs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flags      – Contains the processor specific fla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_ehsize    – Contains the ELF header size in by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ection of an ELF executable contain various information needed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bs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-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uninitialized data that contributes to the program's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mory image. By definition, the system initializes th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with zeros when the program begins to ru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mment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Version control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structor function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ata1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data that contribute to the program's memor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ebu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 - Information for symbolic debugging. The contents are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nspecifi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to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  - Initialized pointers to the C++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tructor fun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dynamic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- Dynamic linking inform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0880" y="99072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tr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trings needed for dynamic linking, most commonly the strings that represent the names associated with symbol table entr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dynsym --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the dynamic linking symbol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fini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executable instructions that contribute to the process termination code. When a program exits normally the system arranges to execute the code in this sec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go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the global offset table.  See .pl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hash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a symbol hash tab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i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 executable instructions that contribute to the process initialization code. When a program starts to run the system arranges to execute the code in this section before calling the main program entry poin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interp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 the pathname of a program interpreter. If the file has a loadable segment that includes the section, the section's attributes will include the SHF_ALLOC bit. Otherwise, that bit will be off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900" spc="-1" strike="noStrike" u="sng">
                <a:solidFill>
                  <a:srgbClr val="000000"/>
                </a:solidFill>
                <a:uFillTx/>
                <a:latin typeface="Verdana"/>
              </a:rPr>
              <a:t>lin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-  line number information for symbolic debugging, which describes the correspondence between the program source and the machine code. The contents are unspecified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LF Section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066680"/>
            <a:ext cx="8229600" cy="5564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t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nformation in the “Note Section” form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scribed below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pl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procedure linkage table.  See .go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elNAME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location information.  By convention, “NAME” is supplied by the section to which the relocations apply. Thus a relocation section for .text normally would have the name 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l.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rodata1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read-only data that typically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ntributes to a non-writable segment in the process imag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h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ection na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tr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strings, most commonly the strings that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present the names associated with symbol table entri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symtab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 symbol table. If the file has a loadable segment that includes the symbol table, the section's attributes will include the SHF_ALLOC bit. Otherwise the bit will be of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text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the “text'' or executable instructions, of a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gra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xecutable Formats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E – Portable Execu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icrosoft migrated to the PE format with the introduction of the Windows NT 3.1 operating system.  It is based on a modified form of the UNIX COFF form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hat uses P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indows NT, Window 2000, Windows XP, Windows 2003, Windows CE, Windows Vis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issection of major pa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ways starts with “MZ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OS Stu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DOS stub contains a message that the executable will not run in DOS mod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ptional Header (Not optiona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3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Relative virtual address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ptional Head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9907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1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The optional header in a PE executable contains information regarding the executable contents needed for the OS load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-- Size of the code (text) section, or the sum of all cod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sections if there are multiple sec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AddressOfEntryPoi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ddress of the entry function to start execution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   fr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Cod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RVA of the start of the code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BaseOfData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RVA of the start of the data relative to the base addre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ection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Alignment of sections when loaded into mem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FileAlignment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Alignment of section on dis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Image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 --  Size, in bytes, of image, including all headers; must be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 multiple of Section Alignmen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SizeOfHeader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Combined size of MS-DOS stub, PE Header, and 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ction headers rounded up to a multiple of FileAlignmen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 u="sng">
                <a:solidFill>
                  <a:srgbClr val="000000"/>
                </a:solidFill>
                <a:uFillTx/>
                <a:latin typeface="Verdana"/>
              </a:rPr>
              <a:t>NumberOfRvaAndSizes</a:t>
            </a: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 -- Number of data-dictionary entries in the remainder of the optional Header. Each describes a location and siz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ec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ections in a PE file contain pieces of the executable needed to run including RVA’s and off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text   – Contains all executabl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idata  – Imported data such as .dll addr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edata – Any export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data   – Initialized data like global variables and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ing liter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bss    – Un-initialized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src   – All module resour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reloc  – Relocation data for the OS lo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ist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engineering (REing) isn’t n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. For century’s countries at war would capture equipment and reverse engineer the design to duplicate the weap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recent years, China seized a downed US AWAX plan and reportedly reversed cryptograph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talk focuses on software RE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also called 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verse Code Enginee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ata File Forma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8229600" cy="4552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fferent than executable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usually contain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s structure but not always defined s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y need to reverse file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prietary formats are not always publish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ing allows compatibility (i.e. Microsoft doc in Open Offic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… though MS just released office form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he only way to get what you pay for is to tak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ssembly Language and Archi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.asm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est level of programming (besides microcode/machine code)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pecific to a particular archite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 processor register access utilizing architecture defined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of most compilers is .a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106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fore it's compiled into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How is .asm used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60020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rectly using an 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SM or M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All are .asm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utput by a high level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106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oth C/C++ compil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does it looks lik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the architecture instruction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mov eax, 0x1 (Intel or ATT style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-RIS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py %r14,%r2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LDR r0,[r8]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e the mneumonics for the opcodes handled by the 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nimal set of “commands” that achieve a programming 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gain, opcodes == by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newmoncs is “more” read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nstruction Set Architectur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SC - Reduced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xed length 32 bit (4 byte)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32 general purpose regist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BM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P (PA-RIS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Apple (PowerPC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ISC - Complex Instruction Set Compu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byte instruc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ultiple synonymous opco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16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Vendo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ntel (IA-32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EC [PDP-11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Motorola (m68K)</a:t>
            </a:r>
            <a:r>
              <a:rPr b="0" lang="ar-SA" sz="16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s and the Stack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 are used to store temporary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oin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Comput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stack is used to manage data and function ca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ack Layou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3712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ck is dynamic but builds as it g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dresses start at a higher address and builds to lower addr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stack is generally allocated in 4 byte chu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6324480" cy="31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at is REing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ing is the process of extracting knowledge or design information from anything man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 relates to security the goal may also be to uncover unknown software bu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gister size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ister sizes depend on the supported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64 b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A3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6 registers 32 bits (4 bytes)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64bit finally in wide use as w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2 general purpose registers 64 bits [8 bytes] ea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3 most important IA32 Register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BP – Stack frame bas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start of the functions stack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P – Stack source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current (top) location on the 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ints to the next executable i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3200400" y="4191120"/>
            <a:ext cx="48196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ll 16 IA32 Regist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IP – Instruction poin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eral Purpose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in general computation and control flo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AX – Accumulato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B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CX – Counter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X – General data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I – Source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DI – Destination index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egment regi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Used to segment memory and compute addr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S – Code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S  - Stack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DS  -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ES  - Extra (More data)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FS  - Third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GS – Fourth data segment regis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FLAG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CF – Carry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F – Signed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ZF – Zero Fla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Overview of IA-32 Instruction Set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  – Moves source to destin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    – Loads effective add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mp  – Jum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ne – Jump if not eq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03640" indent="-183600">
              <a:lnSpc>
                <a:spcPct val="9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g – Jump if greater t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ll   – Unconditional function c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t    – Returns from a function to the ca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dd  – Add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ub  – subtract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or   – XORs two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mp – Compares two registers via subtr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st –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two operands togeth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8d3e"/>
                </a:solidFill>
                <a:latin typeface="Verdana"/>
              </a:rPr>
              <a:t>First glimpse at Code - Looking at Calling Conven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unction Calling Conventio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ing conventions define how the callers data is arranged on the stack, and who takes care of the stacks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dec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common, especially on UN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ler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d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mon in Wind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arameters are received in reverse or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 unwinds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astc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rst two parameters are passed over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00"/>
              </a:spcBef>
              <a:buClr>
                <a:srgbClr val="f07f09"/>
              </a:buClr>
              <a:buFont typeface="Verdana"/>
              <a:buChar char="◦"/>
              <a:tabLst>
                <a:tab algn="l" pos="336600"/>
                <a:tab algn="l" pos="901800"/>
                <a:tab algn="l" pos="1816200"/>
                <a:tab algn="l" pos="2730600"/>
                <a:tab algn="l" pos="3645000"/>
                <a:tab algn="l" pos="4559400"/>
                <a:tab algn="l" pos="5473800"/>
                <a:tab algn="l" pos="6388200"/>
                <a:tab algn="l" pos="7302600"/>
                <a:tab algn="l" pos="8217000"/>
                <a:tab algn="l" pos="9131400"/>
                <a:tab algn="l" pos="10045800"/>
                <a:tab algn="l" pos="10049040"/>
                <a:tab algn="l" pos="10506240"/>
                <a:tab algn="l" pos="10509120"/>
                <a:tab algn="l" pos="1051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need to unwind st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DEC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1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tion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sp, 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TD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cdecl int MyFunc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 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2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[ebp + 8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[ebp + 1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 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_MyFunc2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ASTCAL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456840"/>
            <a:ext cx="4724280" cy="1600200"/>
          </a:xfrm>
          <a:prstGeom prst="rect">
            <a:avLst/>
          </a:prstGeom>
          <a:noFill/>
          <a:ln w="0">
            <a:noFill/>
          </a:ln>
        </p:spPr>
        <p:txBody>
          <a:bodyPr lIns="146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fastcall int MyFunc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int a, int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return a + b; 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79800" y="579600"/>
            <a:ext cx="4492800" cy="792000"/>
          </a:xfrm>
          <a:prstGeom prst="rect">
            <a:avLst/>
          </a:prstGeom>
          <a:noFill/>
          <a:ln w="0">
            <a:noFill/>
          </a:ln>
        </p:spPr>
        <p:txBody>
          <a:bodyPr lIns="137160" tIns="91440" anchor="ctr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 = MyFunc3(2, 3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08040" y="192096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sh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bp, esp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many compilers create a stack frame even if it isn't 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d eax, edx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;a is in eax, b is in ed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 eb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53000" y="1905120"/>
            <a:ext cx="3930480" cy="348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ax,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v edx,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l @MyFunc3@8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/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hy do we reverse engineer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losed source softw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ulnerability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t ver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rypto algorithm resear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prietary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oper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MB on UNIX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Word compatible ed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irus (malware)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gital Rights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ony Back do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a general purpose win32 user land debugger.  The great thing about it is the intuitive UI and powerful disassemb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is free (shareware), however it is not open source and the source code is not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 has defined a plugin architecture allowing extensibility via powerful plug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ndow layouts are the various parts of the UI that contain pertin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Code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executable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Register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watch the contents of each register during exec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emory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Allows the user to view the contents of various memory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Stack window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– Displays the stack, including memory addresses and val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ar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n be entered in the code window with the ; or : ke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sting Na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names window displays all functions or imported functions used in the progr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sting them is easy via the shortcut Ctrl +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owing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memory can be useful when looking for strings or other important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ing the memory map window can be achieved via Alt +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Breakpoi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Breakpoints allow the debugger to stop at a specified address or instru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two types of breakpoints in gener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Soft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operating syste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navigating to the specified address and hitting F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Hardware breakpoint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andled by the processo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451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et by finding a place in memory you want to break on access and right clicking selecting the proper op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Olly also provides a way to view and turn on/off breakpoints via the breakpoints window with Alt + 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ntrolling Execu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tarting the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Once the target program is either loaded or attached in Olly you can start execution.  This will actually set up an initial breakpoint at the application entry poi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re are several ways you can proceed from the entry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ingle step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one instruction at a time (F7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Steps into every fun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Tediou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p Ov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ver functions (F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51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so, Execute until retur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ecutes until the ret instruction is encountered which can be achieved by hitting Ctrl + F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orking in OllyDbg Cont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tching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register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 highlighting indicates a register has chan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ndled in the stack wind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splay can be address or relative address from eb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 st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ch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n be displayed with the shortcut Alt + 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llyDbg 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llyDbg provides a downloadable PDK for plugin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ral plugins exist that provide extra us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eap 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point mana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scri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mmunity Debugge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ython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much more, so check it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8d3e"/>
                </a:solidFill>
                <a:latin typeface="Verdana"/>
              </a:rPr>
              <a:t>ImmDbg Demo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gram displays a popup bo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al is to make the proper box show and ex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nary Patching is fun...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us to modify the executable assembly code and save it to a new file with the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uld also just be done in a hexedi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Hexeditors are fun to play wit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NU Debugger (gdb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*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so easy to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ke VI, has a lot of text commands to memori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oesn’t do well with stripped bin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werful once you get the hang of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in all kinds of 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Again, Why should you care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sis of compu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erse engineering teaches the inner workings of any proces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arning how the processor handles data helps in understanding many other aspects of computer 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 the cool kids are doing i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t really, still a highly specialized, high paying job fiel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ing for government contracts is still good mone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A Pr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active Disassembler Professional (IDA pro) is a powerful disassemb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s tons of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has since been broadened to include a built in debug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signed for reverse engineers with quickness and robustness in mi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makes the learning curve steep for s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tensible plug-in architecture and built in scripting langu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Window Layout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ustomizing window layou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saved session will store any customized layou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default layout can also be sa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ustomized layouts are provided to help the user with workflow and can consist of any combination or number of windo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Navigat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4920" y="1219320"/>
            <a:ext cx="8610480" cy="4954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ortc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ost actions have equivalent shortcuts associated with th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most us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nter] – Jumps into the function under the curso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[Esc] – Returns to the previous cursor posi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ump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DA allows the user to jump to various parts of a binary file easil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ome of the jum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Entry point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Jumps to the entry point of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name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– Allows the user to jump to a specific function or string in the bina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80000"/>
              </a:lnSpc>
              <a:spcBef>
                <a:spcPts val="400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Verdana"/>
              </a:rPr>
              <a:t>By addres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– Allows the user to jump to a specific addr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r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can be used to tag locations in the binary for future reference (like a bookmar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rkers are set using Alt + M and nam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Jumping to a marker is easily achieved with Ctrl +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Edi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allow you to organize and document important parts of the bina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s can be entered using the shortcut keys ‘;’ or ‘: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unction names can be </a:t>
            </a:r>
            <a:r>
              <a:rPr b="1" i="1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renamed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to something more descrip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ften times symbols are not available for the binary and naming each functions allows you to understand and track your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s can be renamed using ‘n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Most Popular View Window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56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A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s the disassembled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ex 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splay the hex view of the current cursor pos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names windows displays textual names and addresses in the bina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strings window contains any ASCII strings present in the executable.  Check these fir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mports window contains the imported functions from dll’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functions window allows you to view all functions and their addre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Graph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A Pro has a powerful graphing engine that allows a user to visualize call graphs and xre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ew version has “overview graph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play the current functions machine code and any branch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nction call graph will display the call flow of all the functions in the executable (Can be large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Xref graphs display the to and from xrefs with machine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Flir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st Library Identification and Recognition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irt is a means for IDA Pro to identify imported functions and compilers by matching against a database of known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is greatly speeds up analysis by automatically naming discovered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ly works with C/C++ 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lare works to bring in static lib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DC Script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IDC scripting engine allows the user to achieve small tasks through the IDC scripting eng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DC resembles C and has many helpful functions built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tchBy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ind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SDK/Plugin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The SDK allows the user to develop plugins for use in IDA P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Plug-ins are written in C/C++ and compiled against the version specific SDK libraries and head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Using the plugins you can wri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or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nput processing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lugin modu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Some good plugi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x86emu – Allows IDA to do runtime emul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IDAPython – Access the IDA API in Pyth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Processes Stalker – Allows visualization and run time trac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Mo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idapalace.co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Hex-rays.com/community/plugi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Is it legal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social, moral, and economic impact does RE have on society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ends on what RE is used for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ther a RE scenario is legal or not depends on many fa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ally, we’re not getting into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IDA DEM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rse a few simple pro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 and Compile a program in Win/UN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w the sections wi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264960">
              <a:spcBef>
                <a:spcPts val="249"/>
              </a:spcBef>
              <a:buClr>
                <a:srgbClr val="f07f0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dump/dumpbin or in 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c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Overview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compiling is different than disassembling in that it tries to reconstruct machine code to readable (and ultimately compilable) source co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Native compiled code is difficult to reconstruct because of the compilers behaviour when optimizing the produced cod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601"/>
              </a:spcBef>
              <a:buClr>
                <a:srgbClr val="ed3742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ough new hex-rays plug-in is fairly good I’m to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Virtual machine code is much easier to achieve readable code because of its nature.  It must be compiled into a intermediate language with all necessary information the target platform may need to ru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200160">
              <a:lnSpc>
                <a:spcPct val="70000"/>
              </a:lnSpc>
              <a:spcBef>
                <a:spcPts val="49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.Ne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is compiled down into MSIL (Microsoft intermediate language) and is a good example of decomp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 must provide the operating system with a wealth of information including symbol names, and data struc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Decompiler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7200" y="1600200"/>
            <a:ext cx="8229600" cy="4448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# 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LDas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motesoft Salaman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flector for .N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AD (Disappeared)</a:t>
            </a:r>
            <a:r>
              <a:rPr b="0" lang="ar-SA" sz="2400" spc="-1" strike="noStrike">
                <a:solidFill>
                  <a:srgbClr val="000000"/>
                </a:solidFill>
                <a:latin typeface="Verdana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oomera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Conclusion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verse engineering is a vast and complex worl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ith a lot of practice though it becomes much eas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good reverser knows their tools inside and o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orkflow and organization are the keys to revers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4928760"/>
            <a:ext cx="8183520" cy="6764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766f"/>
                </a:solidFill>
                <a:latin typeface="Verdana"/>
              </a:rPr>
              <a:t>Two Types of Reversing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5624640"/>
            <a:ext cx="8183520" cy="699840"/>
          </a:xfrm>
          <a:prstGeom prst="rect">
            <a:avLst/>
          </a:prstGeom>
          <a:noFill/>
          <a:ln w="0">
            <a:noFill/>
          </a:ln>
        </p:spPr>
        <p:txBody>
          <a:bodyPr lIns="118800" t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Dynam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Static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b95c00"/>
                </a:solidFill>
                <a:latin typeface="Verdana"/>
              </a:rPr>
              <a:t>Bot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8d3e"/>
                </a:solidFill>
                <a:latin typeface="Verdana"/>
              </a:rPr>
              <a:t>Real Time or dynamic</a:t>
            </a:r>
            <a:r>
              <a:rPr b="1" lang="ar-SA" sz="3600" spc="-1" strike="noStrike">
                <a:solidFill>
                  <a:srgbClr val="ff8d3e"/>
                </a:solidFill>
                <a:latin typeface="Verdana"/>
                <a:ea typeface="Arial"/>
              </a:rPr>
              <a:t>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59984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buggers that disasse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llyDbg/Immunity Debug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WinDb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d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de actually ru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application executes all instructions as if it was ran norm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700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s interrupts to control execu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out the current instruction with an interrupt instruction 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Verdana"/>
              <a:buChar char="◦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waps it back when the execution is continu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2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0xcc == software break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red</cp:lastModifiedBy>
  <dcterms:modified xsi:type="dcterms:W3CDTF">2008-08-04T05:06:41Z</dcterms:modified>
  <cp:revision>97</cp:revision>
  <dc:subject/>
  <dc:title>Intro to Reverse Engineering</dc:title>
</cp:coreProperties>
</file>