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AF3-B30D-4370-9A11-CD740E26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A1F-ED25-4197-A7A2-6475CD88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2DE-C6D5-491C-B9C8-2CDDF208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A75-82D1-47C6-B82D-A99EB6F7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2FE-3AA3-423A-8F0C-2B3EC8DD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1B3-6EE7-4711-A2E5-AB5550B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EC6-CB4E-4E83-BB5E-3E44979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2FB-2B2A-4ECF-AB99-3025C92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4E0-8A1B-4CC6-AC24-E7113B63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49A-4E54-43D8-9D7E-DE36399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14B-D161-47D2-A621-3824189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DA6-5F85-46A3-9598-A37717A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B802-D6C6-4F17-88A5-BE6D1C645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8:09:46Z</dcterms:created>
  <dc:creator>Dionysus Blazakis</dc:creator>
  <dc:description/>
  <dc:language>en-US</dc:language>
  <cp:lastModifiedBy/>
  <cp:revision>1</cp:revision>
  <dc:subject/>
  <dc:title/>
</cp:coreProperties>
</file>