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CB2-0351-48CC-B4AA-FD4EAA76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6C5-9CF8-42CE-B731-07D7B50F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AB7-F637-4347-9F8B-87F4B6BC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AF9-4E35-4597-A725-6BA6EE6F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424-E616-4DF7-9073-D383D7C9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5EA-9E53-4103-9F60-B5638403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968-2760-4000-A0D0-47F61D41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4C0-025C-446A-9F34-5F591355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D8A-8DBF-4601-BECE-E75BE25F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CB4-AAA8-461C-A1E6-4DD287C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3BE-63F5-4C04-A682-DBD29BA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AE5-AC52-4536-9E9E-51126479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16EEF-9E83-411B-8419-8A8AED9C8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8:09:46Z</dcterms:created>
  <dc:creator>Dionysus Blazakis</dc:creator>
  <dc:description/>
  <dc:language>en-US</dc:language>
  <cp:lastModifiedBy/>
  <cp:revision>1</cp:revision>
  <dc:subject/>
  <dc:title/>
</cp:coreProperties>
</file>