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B72D-6598-4667-9DB8-B625961DE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342D-67EA-4F66-AF10-D9A3392B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7BE9-DF1D-4C67-9C07-DAFCAE63E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8960-4827-41FA-AB51-CD520DBE4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AA2D-7AC1-4F6A-87D6-CEDFBC90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AEEE-2C95-4DDE-8D5B-29D62874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27D0-ACD7-4641-90E4-0F33B679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EC3B-790F-4240-B663-B1050786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48A4-6E35-411A-9B66-B2FA39C4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762C-C0A6-453C-8626-578C82FB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4B80-A732-430E-877A-0931958E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B04B-25FA-4C0C-8A50-F1C0A6B9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0F4C9-611E-4669-B441-81B474015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8:09:46Z</dcterms:created>
  <dc:creator>Dionysus Blazakis</dc:creator>
  <dc:description/>
  <dc:language>en-US</dc:language>
  <cp:lastModifiedBy/>
  <cp:revision>1</cp:revision>
  <dc:subject/>
  <dc:title/>
</cp:coreProperties>
</file>