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5F5-8354-4E4E-8069-01CFE70DB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CFF-7985-4983-A6CD-C9AD56E1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E38-9820-47C9-B158-0C880F86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7D1-92C0-427D-885A-AF74E142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E6D-3040-4483-ACCE-E9CA068B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F74-FCA3-46FB-A281-FED5392D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596-ABD1-4FB6-B193-EBF5D4BA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DC4-270E-4029-9CEE-5A0C27E5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5B6-1B9C-4BA2-9F6B-B0FCAF13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200-249B-40A8-A329-8B1607C3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FB0-7206-4A86-ADEF-9A69BF95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5040-A230-494B-9CA6-3F39CE6F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EAB68-9A86-4632-9902-A12407163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8:09:46Z</dcterms:created>
  <dc:creator>Dionysus Blazakis</dc:creator>
  <dc:description/>
  <dc:language>en-US</dc:language>
  <cp:lastModifiedBy/>
  <cp:revision>1</cp:revision>
  <dc:subject/>
  <dc:title/>
</cp:coreProperties>
</file>