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A94C-7F86-4412-974C-45473E1C4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37D65-9C6A-4EBB-B8E9-97ACBF70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777E-3DDF-48F7-9DDC-54EF74F3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112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5040" y="182844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112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65040" y="4137120"/>
            <a:ext cx="2527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08CA-BDD8-49C9-8F31-CF97E4248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6890-B2C3-4906-80E7-48F037BB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9545-3CE6-4F72-BF00-5F195CB0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87B5-469F-4B98-AD02-C29D6F74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2A41-9CB2-4801-B071-5913AD02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533520"/>
            <a:ext cx="7696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3541-B7DF-485C-B5FF-F47C0C80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92B6-0677-4367-B892-C0BAA622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79120" y="413712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8A1FA-9067-4103-8C29-8D53FF1C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9120" y="1828440"/>
            <a:ext cx="38300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7120"/>
            <a:ext cx="7848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9664-EB7C-42B6-88F1-0FBD8784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icklei@philemonwork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DBA-7EF9-477B-9D80-2F4639C1D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23160" y="5665680"/>
            <a:ext cx="1098720" cy="974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39000" y="5681520"/>
            <a:ext cx="10717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819920" y="6657480"/>
            <a:ext cx="112392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943840" y="5667480"/>
            <a:ext cx="0" cy="993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839000" y="5681520"/>
            <a:ext cx="0" cy="94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5694480"/>
            <a:ext cx="1066680" cy="93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 Widge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rnest Micklei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emicklei@philemonworks.com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mersfoort, The Netherland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ESUG 10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Douai, August 29 200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Lis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:= TerminalWidget lis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 items: #('ESUG' '10th' 'Douai' 'France' 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ag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275120" y="2378160"/>
            <a:ext cx="637272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:= TerminalWidget image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e bitmap: (Bitmap fromFile: 'splash.bmp'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43520" y="1752480"/>
            <a:ext cx="6372720" cy="37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:= TerminalWidget menuClass in: (1@1 corner: 4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1. Stockrates' key: $1 do: [self startStockrate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2. Accounts' key: $2 do: [self startAccount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 add: '3. Invoices' key: $3 do: [self startInvoicesView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enuBa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53880" y="1905120"/>
            <a:ext cx="6534360" cy="3501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lis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window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:= TerminalWidget menuBarClass in: (1@1 corner: 1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File' key: $f menu: self file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Edit' key: $o menu: self edit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nuBar add: 'Help' key: $h menu: self helpMe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menuB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rmina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op container for terminal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show, hide and (will in future) stack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 dialect specif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t requires minimal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s claim a region of the scre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controller to handle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 model for storing its domain valu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the "V" in MV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when:send:to:, broadcast: (AO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s a single character in some (fixed) fo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display decoration (border lin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 an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mplementation challeng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racter (re)displa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 (re)displa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servation: painting complete scree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mage rectangles intersection is too 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knows which characters to upd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, does not help with overlapping OS-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eed double buff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InputControll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ke the VW ParagraphEditor, but..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reak text into lines, localizing upda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place CRLF with C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character takes up one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beyond tex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ursor can be on CR posi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dopt color emphasi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crolling (verticall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o TA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Motivatio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SI (Repetitive Strain Injui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st access to simple programs (=obj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plore mixed interfaces (pixels-ASCII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mplest UI poss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odul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ndow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ge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erties "inherited" by composition hierarch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ifiable at each "leve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Appearance hierarchy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553080" cy="358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ObjectAppearance  (abstract superclass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reground background selectionForeground selectionBackgroun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ndow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nt fontName characterWidth characterHeight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ndowAppearance borderColor showBorderOnFocus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Character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idgetAppeara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idgetAppe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ds colors from parent appea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indowAppea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 can override values by replacing nil-val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lObjetAppearance&gt;&gt;backgroun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^background isNi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self hasParen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True:[nil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self parentAppearance background]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False:[background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haracterAppearance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ly meant for per-character colo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came obsolete when introducing EmphasizedTex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 rewrite of VW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ESUG' asEmphasizedTex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: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: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Foreground: Color 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dos) TextEdito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915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(yet another) Class Browser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2549520"/>
            <a:ext cx="60199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ahoma"/>
              </a:rPr>
              <a:t>Smalltalk Objects Shell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ell interface to an almost empty object space (imag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048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do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ementatio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t of purpose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loring the "Smalltalk Objects Shell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What's next to implemen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write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 tips from Samuel Shu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ish port from VAST to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it o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xt selection for InputContro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,copy,pa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ndle OS-pai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 from Pollock XML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How to por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lay method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raw a String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spatch keyboard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ndle focus ev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ave a window to paint 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(almost) done for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widget displays an aspect of an object in a defined region of a 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region is defined by a rectangular area of characters organized in rows and colum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board events are handled by the controller of the widget (MVC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issue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to design characterbased applic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still be object-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at do I need for client-server archite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be TELNET is fine, why b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ssing widgets? buttons,dropdow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 I really want to mimic 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Shell for Objec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ivation for porting to "imageless" SmallScrip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objects in stead of just (fat)executa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nk about what objects are really powerful but do not need a U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D language gen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Useful?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-inventing wheels? (curse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mixing character-based and full graphics only just "yes we can do-it"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 performance be acceptable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bout the result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Can be done (what else would you expec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ght be usefu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ixing with other widgets not explor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Highly portable (to other dialec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ahoma"/>
              </a:rPr>
              <a:t>Mouseless a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Example SmallScrip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549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erence module: PhilemonTerminalView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window | := Terminal windowClass in:(1@1 corner: 20@4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text | := Terminal textClass in:(2@2 corner: 19@3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 add: tex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l show: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562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.dll = 56kB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hanks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wnload @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ttp://www.philemonworks.co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 is a UI component that displays a grid of ASCII charac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 displaying, widgets map their contents to characters of that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sign (III)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e classes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ositeWidget, Appearance,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Coordinate system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14600" y="2743200"/>
          <a:ext cx="4267080" cy="2666880"/>
        </p:xfrm>
        <a:graphic>
          <a:graphicData uri="http://schemas.openxmlformats.org/drawingml/2006/table">
            <a:tbl>
              <a:tblPr/>
              <a:tblGrid>
                <a:gridCol w="473760"/>
                <a:gridCol w="474120"/>
                <a:gridCol w="474480"/>
                <a:gridCol w="473760"/>
                <a:gridCol w="474480"/>
                <a:gridCol w="474120"/>
                <a:gridCol w="473760"/>
                <a:gridCol w="474480"/>
                <a:gridCol w="47412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566440" y="5638680"/>
            <a:ext cx="30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rid at: (1@2)) = $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01920" y="19810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by Points: row@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inal screen is showing a matrix of graphical characters organized in rows and colum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ahoma"/>
              </a:rPr>
              <a:t>Termin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81640" y="3800520"/>
            <a:ext cx="1823400" cy="2069280"/>
            <a:chOff x="4481640" y="3800520"/>
            <a:chExt cx="1823400" cy="2069280"/>
          </a:xfrm>
        </p:grpSpPr>
        <p:sp>
          <p:nvSpPr>
            <p:cNvPr id="63" name=""/>
            <p:cNvSpPr/>
            <p:nvPr/>
          </p:nvSpPr>
          <p:spPr>
            <a:xfrm>
              <a:off x="448164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8164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7196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7196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3888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8880" y="54007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29200" y="48769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9200" y="541008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8164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8164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196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7196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3888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8880" y="43243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29200" y="380052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29200" y="4334040"/>
              <a:ext cx="3758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Grid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olds collection of TerminalCharac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d/write strings to grid (matrix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 display on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rminal OS-window holds gr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Text</a:t>
            </a:r>
            <a:endParaRPr b="1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279440" y="2378160"/>
            <a:ext cx="5996160" cy="3014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window txt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window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dow := TerminalWidget textClass in: (1@1 corner: 24@8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"buil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:= TerminalWidget textClass in: (1@1 corner: 8@2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xt string: 'This is a Smalltalk terminal application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indow add: t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"op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erminal show: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3T08:49:26Z</dcterms:created>
  <dc:creator>Philemon</dc:creator>
  <dc:description/>
  <dc:language>en-US</dc:language>
  <cp:lastModifiedBy>emicklei</cp:lastModifiedBy>
  <dcterms:modified xsi:type="dcterms:W3CDTF">2002-08-29T14:35:32Z</dcterms:modified>
  <cp:revision>88</cp:revision>
  <dc:subject/>
  <dc:title>No Slide Title</dc:title>
</cp:coreProperties>
</file>