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5656-8AE2-4B2C-A015-147023BBA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D861-9D1E-4474-A340-4037AC6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B30B-B186-40D9-9EC8-36C255E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112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504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112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6504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72C8-11C0-4004-AF3F-996F37D59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27E0-DEFC-49FE-BC4E-52C80C4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0CAF-582C-40C2-BD0B-97F2F09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0B94-156B-4BA2-B3C1-9925F94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2D34-721F-4BB9-93AF-45E541A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A64A-D24E-4806-B4A0-6108DF4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9CDA-A73E-4A96-99D5-15F993C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2B73-E1C3-4D54-94BE-367B496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02B6-77BF-4DE2-A3C0-DBAA88BF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icklei@philemonwork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017-CF27-470D-9CB1-48B0F20D8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160" y="5665680"/>
            <a:ext cx="1098720" cy="97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39000" y="5681520"/>
            <a:ext cx="10717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819920" y="6657480"/>
            <a:ext cx="11239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43840" y="5667480"/>
            <a:ext cx="0" cy="99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39000" y="5681520"/>
            <a:ext cx="0" cy="94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5694480"/>
            <a:ext cx="10666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 Widge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nest Micklei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emicklei@philemonworks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ersfoort, The Netherlan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SUG 10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Douai, August 29 200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Lis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:= TerminalWidget lis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items: #('ESUG' '10th' 'Douai' 'France' 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ag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:= TerminalWidget image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bitmap: (Bitmap fromFile: 'splash.bmp'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43520" y="1752480"/>
            <a:ext cx="6372720" cy="37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:= TerminalWidget menuClass in: (1@1 corner: 4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1. Stockrates' key: $1 do: [self startStockrate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2. Accounts' key: $2 do: [self startAccount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3. Invoices' key: $3 do: [self startInvoices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Ba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53880" y="1905120"/>
            <a:ext cx="6534360" cy="350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:= TerminalWidget menuBarClass in: (1@1 corner: 1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File' key: $f menu: self file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Edit' key: $o menu: self edit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Help' key: $h menu: self help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B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op container for terminal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show, hide and (will in future) stack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 dialect specif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requires minimal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s claim a region of the scre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controller to handle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model for storing its domain valu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he "V" in MV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:send:to:, broadcast: (AO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s a single character in some (fixed) fo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display decoration (border li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plementation challeng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racter (re)displ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 (re)displa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: painting complete scree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mage rectangles intersectio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knows which characters to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, does not help with overlapping OS-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eed double buff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nputControll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ke the VW ParagraphEditor, but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reak text into lines, localizing upd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place CRLF with C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character takes up on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beyond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on CR 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opt color emphas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rolling (verticall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 TA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tivatio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I (Repetitive Strain Injui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access to simple programs (=obj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ore mixed interfaces (pixels-ASCII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est UI poss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dul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 "inherited" by composition hierarch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able at each "leve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 hierarch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358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ObjectAppearance  (abstract superclas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ground background selectionForeground selectionBackgr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ndow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nt fontName characterWidth characterHeight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dowAppearance borderColor showBorderOnFocu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Character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Appe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s colors from paren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indow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can override values by replacing nil-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ObjetAppearance&gt;&gt;backgroun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^background isNi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self hasPar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ni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self parentAppearance background]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background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ly meant for per-character colo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me obsolete when introducing EmphasizedTex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 rewrite of VW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ESUG' asEmphasizedTex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Foreground: Color 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dos) TextEdito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915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yet another) Class Brows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549520"/>
            <a:ext cx="60199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Smalltalk Objects Shel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ell interface to an almost empty object space (imag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048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do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t of purpose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the "Smalltalk Objects Shel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implemen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write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 tips from Samuel Sh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ish port from VAST to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it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 selection for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copy,p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dle OS-p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 from Pollock XML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How to por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 metho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String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patch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ndle focus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ve a window to paint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lmost) don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idget displays an aspect of an object in a defined region of a 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gion is defined by a rectangular area of characters organized in rows and colum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board events are handled by the controller of the widget (MV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issu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sign characterbased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till be 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I need for client-server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TELNET is fine, why b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ssing widgets? buttons,dropdow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 really want to mimic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hell for Objec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ion for porting to "imageless"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bjects in stead of just (fat)execut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nk about what objects are really powerful but do not need a U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D language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Useful?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-inventing wheels? (curs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ixing character-based and full graphics only just "yes we can do-it"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 performance be acceptable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bout the resul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an be done (what else would you expec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ght be usefu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xing with other widgets not explo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ighly portable (to other dial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ouseless a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Example SmallScrip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4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 module: PhilemonTerminalVie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window | := Terminal windowClass in:(1@1 corner: 20@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text | := Terminal textClass in:(2@2 corner: 19@3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add: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 show: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.dll = 56k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hank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load @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philemonworks.c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 is a UI component that displays a grid of ASCII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displaying, widgets map their contents to characters of that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e classes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siteWidget, Appearance,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oordinate system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14600" y="2743200"/>
          <a:ext cx="4267080" cy="2666880"/>
        </p:xfrm>
        <a:graphic>
          <a:graphicData uri="http://schemas.openxmlformats.org/drawingml/2006/table">
            <a:tbl>
              <a:tblPr/>
              <a:tblGrid>
                <a:gridCol w="473760"/>
                <a:gridCol w="474120"/>
                <a:gridCol w="474480"/>
                <a:gridCol w="473760"/>
                <a:gridCol w="474480"/>
                <a:gridCol w="474120"/>
                <a:gridCol w="473760"/>
                <a:gridCol w="474480"/>
                <a:gridCol w="47412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66440" y="56386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rid at: (1@2)) = $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1920" y="19810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y Points: row@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inal screen is showing a matrix of graphical characters organized in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81640" y="3800520"/>
            <a:ext cx="1823400" cy="2069280"/>
            <a:chOff x="4481640" y="3800520"/>
            <a:chExt cx="1823400" cy="2069280"/>
          </a:xfrm>
        </p:grpSpPr>
        <p:sp>
          <p:nvSpPr>
            <p:cNvPr id="63" name=""/>
            <p:cNvSpPr/>
            <p:nvPr/>
          </p:nvSpPr>
          <p:spPr>
            <a:xfrm>
              <a:off x="448164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196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7196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888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888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920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164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8164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196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196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888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888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2920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920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lds collection of Terminal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/write strings to grid (matrix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 display on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rminal OS-window holds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x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2378160"/>
            <a:ext cx="599616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tx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text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:= TerminalWidget tex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string: 'This is a Smalltalk terminal application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t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3T08:49:26Z</dcterms:created>
  <dc:creator>Philemon</dc:creator>
  <dc:description/>
  <dc:language>en-US</dc:language>
  <cp:lastModifiedBy>emicklei</cp:lastModifiedBy>
  <dcterms:modified xsi:type="dcterms:W3CDTF">2002-08-29T14:35:32Z</dcterms:modified>
  <cp:revision>88</cp:revision>
  <dc:subject/>
  <dc:title>No Slide Title</dc:title>
</cp:coreProperties>
</file>